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DF7-D412-4A1A-A7CD-4AD332CD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1CF-BBD9-410C-911C-940AFE8E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0608-B213-4B3A-B3B6-D70E3EE6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638-50E2-43C8-B80A-14842BF0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EDC-9649-4069-8F41-7CA37636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49EE-D420-4359-A185-494997AC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FC91-8B48-4BDB-840A-48A10ACD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8CD-6D1D-4042-BADF-C76B6F10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A29-469B-40C3-BFD6-8280D0CB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F15-E53A-46AB-BD5F-ACFCDD92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2AC-91D2-4F6F-A86E-CB517CA4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0CB-FA06-416B-821D-6BECE288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F9EB-F123-4218-B70C-33CBDD9BE2E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0AB5-38AD-41F5-B770-AA9F9047EF7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2f2f2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6424560" y="4470480"/>
            <a:ext cx="308160" cy="1262160"/>
          </a:xfrm>
          <a:custGeom>
            <a:avLst/>
            <a:gdLst/>
            <a:ahLst/>
            <a:rect l="l" t="t" r="r" b="b"/>
            <a:pathLst>
              <a:path w="772160" h="1442514">
                <a:moveTo>
                  <a:pt x="771913" y="1369943"/>
                </a:moveTo>
                <a:cubicBezTo>
                  <a:pt x="769494" y="1345753"/>
                  <a:pt x="739827" y="1323150"/>
                  <a:pt x="728370" y="1297371"/>
                </a:cubicBezTo>
                <a:cubicBezTo>
                  <a:pt x="720268" y="1279142"/>
                  <a:pt x="719336" y="1258494"/>
                  <a:pt x="713856" y="1239314"/>
                </a:cubicBezTo>
                <a:cubicBezTo>
                  <a:pt x="709653" y="1224603"/>
                  <a:pt x="704179" y="1210285"/>
                  <a:pt x="699341" y="1195771"/>
                </a:cubicBezTo>
                <a:cubicBezTo>
                  <a:pt x="694503" y="1166742"/>
                  <a:pt x="689302" y="1137772"/>
                  <a:pt x="684827" y="1108685"/>
                </a:cubicBezTo>
                <a:cubicBezTo>
                  <a:pt x="679625" y="1074872"/>
                  <a:pt x="678006" y="1040419"/>
                  <a:pt x="670313" y="1007085"/>
                </a:cubicBezTo>
                <a:cubicBezTo>
                  <a:pt x="658803" y="957209"/>
                  <a:pt x="637742" y="906543"/>
                  <a:pt x="612256" y="861943"/>
                </a:cubicBezTo>
                <a:cubicBezTo>
                  <a:pt x="603601" y="846797"/>
                  <a:pt x="594394" y="831801"/>
                  <a:pt x="583227" y="818400"/>
                </a:cubicBezTo>
                <a:cubicBezTo>
                  <a:pt x="550673" y="779335"/>
                  <a:pt x="531249" y="777648"/>
                  <a:pt x="510656" y="731314"/>
                </a:cubicBezTo>
                <a:cubicBezTo>
                  <a:pt x="498229" y="703352"/>
                  <a:pt x="498600" y="669688"/>
                  <a:pt x="481627" y="644228"/>
                </a:cubicBezTo>
                <a:lnTo>
                  <a:pt x="394541" y="513600"/>
                </a:lnTo>
                <a:cubicBezTo>
                  <a:pt x="384865" y="499086"/>
                  <a:pt x="371029" y="486606"/>
                  <a:pt x="365513" y="470057"/>
                </a:cubicBezTo>
                <a:cubicBezTo>
                  <a:pt x="360675" y="455543"/>
                  <a:pt x="360555" y="438461"/>
                  <a:pt x="350998" y="426514"/>
                </a:cubicBezTo>
                <a:cubicBezTo>
                  <a:pt x="340101" y="412893"/>
                  <a:pt x="321970" y="407161"/>
                  <a:pt x="307456" y="397485"/>
                </a:cubicBezTo>
                <a:cubicBezTo>
                  <a:pt x="272941" y="293949"/>
                  <a:pt x="321882" y="419127"/>
                  <a:pt x="249398" y="310400"/>
                </a:cubicBezTo>
                <a:cubicBezTo>
                  <a:pt x="240911" y="297670"/>
                  <a:pt x="243371" y="279587"/>
                  <a:pt x="234884" y="266857"/>
                </a:cubicBezTo>
                <a:cubicBezTo>
                  <a:pt x="223498" y="249778"/>
                  <a:pt x="203943" y="239517"/>
                  <a:pt x="191341" y="223314"/>
                </a:cubicBezTo>
                <a:cubicBezTo>
                  <a:pt x="169922" y="195775"/>
                  <a:pt x="152636" y="165257"/>
                  <a:pt x="133284" y="136228"/>
                </a:cubicBezTo>
                <a:cubicBezTo>
                  <a:pt x="123608" y="121714"/>
                  <a:pt x="118770" y="102361"/>
                  <a:pt x="104256" y="92685"/>
                </a:cubicBezTo>
                <a:lnTo>
                  <a:pt x="60713" y="63657"/>
                </a:lnTo>
                <a:cubicBezTo>
                  <a:pt x="55875" y="49143"/>
                  <a:pt x="57016" y="30932"/>
                  <a:pt x="46198" y="20114"/>
                </a:cubicBezTo>
                <a:cubicBezTo>
                  <a:pt x="35380" y="9296"/>
                  <a:pt x="5656" y="-9402"/>
                  <a:pt x="2656" y="5600"/>
                </a:cubicBezTo>
                <a:cubicBezTo>
                  <a:pt x="-11568" y="76721"/>
                  <a:pt x="34027" y="94247"/>
                  <a:pt x="75227" y="121714"/>
                </a:cubicBezTo>
                <a:cubicBezTo>
                  <a:pt x="119266" y="253834"/>
                  <a:pt x="51712" y="45166"/>
                  <a:pt x="104256" y="237828"/>
                </a:cubicBezTo>
                <a:cubicBezTo>
                  <a:pt x="112307" y="267349"/>
                  <a:pt x="116311" y="299454"/>
                  <a:pt x="133284" y="324914"/>
                </a:cubicBezTo>
                <a:lnTo>
                  <a:pt x="162313" y="368457"/>
                </a:lnTo>
                <a:cubicBezTo>
                  <a:pt x="215244" y="527253"/>
                  <a:pt x="130828" y="286730"/>
                  <a:pt x="205856" y="455543"/>
                </a:cubicBezTo>
                <a:cubicBezTo>
                  <a:pt x="218283" y="483504"/>
                  <a:pt x="225208" y="513600"/>
                  <a:pt x="234884" y="542628"/>
                </a:cubicBezTo>
                <a:cubicBezTo>
                  <a:pt x="239722" y="557142"/>
                  <a:pt x="240911" y="573441"/>
                  <a:pt x="249398" y="586171"/>
                </a:cubicBezTo>
                <a:lnTo>
                  <a:pt x="307456" y="673257"/>
                </a:lnTo>
                <a:cubicBezTo>
                  <a:pt x="312294" y="687771"/>
                  <a:pt x="313483" y="704070"/>
                  <a:pt x="321970" y="716800"/>
                </a:cubicBezTo>
                <a:cubicBezTo>
                  <a:pt x="362826" y="778084"/>
                  <a:pt x="394931" y="760733"/>
                  <a:pt x="452598" y="818400"/>
                </a:cubicBezTo>
                <a:cubicBezTo>
                  <a:pt x="508476" y="874278"/>
                  <a:pt x="484755" y="844864"/>
                  <a:pt x="525170" y="905485"/>
                </a:cubicBezTo>
                <a:cubicBezTo>
                  <a:pt x="530008" y="924838"/>
                  <a:pt x="535504" y="944038"/>
                  <a:pt x="539684" y="963543"/>
                </a:cubicBezTo>
                <a:cubicBezTo>
                  <a:pt x="550022" y="1011787"/>
                  <a:pt x="553111" y="1061878"/>
                  <a:pt x="568713" y="1108685"/>
                </a:cubicBezTo>
                <a:lnTo>
                  <a:pt x="597741" y="1195771"/>
                </a:lnTo>
                <a:cubicBezTo>
                  <a:pt x="602579" y="1210285"/>
                  <a:pt x="608545" y="1224471"/>
                  <a:pt x="612256" y="1239314"/>
                </a:cubicBezTo>
                <a:cubicBezTo>
                  <a:pt x="617094" y="1258666"/>
                  <a:pt x="621038" y="1278264"/>
                  <a:pt x="626770" y="1297371"/>
                </a:cubicBezTo>
                <a:cubicBezTo>
                  <a:pt x="635562" y="1326679"/>
                  <a:pt x="630338" y="1367484"/>
                  <a:pt x="655798" y="1384457"/>
                </a:cubicBezTo>
                <a:lnTo>
                  <a:pt x="742884" y="1442514"/>
                </a:lnTo>
                <a:cubicBezTo>
                  <a:pt x="758571" y="1379763"/>
                  <a:pt x="774332" y="1394133"/>
                  <a:pt x="771913" y="1369943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任意多边形 102"/>
          <p:cNvSpPr/>
          <p:nvPr/>
        </p:nvSpPr>
        <p:spPr>
          <a:xfrm flipH="1">
            <a:off x="6659640" y="3789360"/>
            <a:ext cx="71280" cy="2176560"/>
          </a:xfrm>
          <a:custGeom>
            <a:avLst/>
            <a:gdLst/>
            <a:ahLst/>
            <a:rect l="l" t="t" r="r" b="b"/>
            <a:pathLst>
              <a:path w="209928" h="989351">
                <a:moveTo>
                  <a:pt x="104997" y="0"/>
                </a:moveTo>
                <a:cubicBezTo>
                  <a:pt x="114991" y="24984"/>
                  <a:pt x="127065" y="49233"/>
                  <a:pt x="134978" y="74951"/>
                </a:cubicBezTo>
                <a:cubicBezTo>
                  <a:pt x="147096" y="114333"/>
                  <a:pt x="151928" y="155783"/>
                  <a:pt x="164958" y="194873"/>
                </a:cubicBezTo>
                <a:lnTo>
                  <a:pt x="194938" y="284814"/>
                </a:lnTo>
                <a:lnTo>
                  <a:pt x="209928" y="329784"/>
                </a:lnTo>
                <a:cubicBezTo>
                  <a:pt x="204931" y="439712"/>
                  <a:pt x="203713" y="549877"/>
                  <a:pt x="194938" y="659568"/>
                </a:cubicBezTo>
                <a:cubicBezTo>
                  <a:pt x="193678" y="675319"/>
                  <a:pt x="184289" y="689345"/>
                  <a:pt x="179948" y="704538"/>
                </a:cubicBezTo>
                <a:cubicBezTo>
                  <a:pt x="174288" y="724347"/>
                  <a:pt x="170878" y="744766"/>
                  <a:pt x="164958" y="764499"/>
                </a:cubicBezTo>
                <a:cubicBezTo>
                  <a:pt x="135430" y="862927"/>
                  <a:pt x="155123" y="834295"/>
                  <a:pt x="104997" y="884420"/>
                </a:cubicBezTo>
                <a:cubicBezTo>
                  <a:pt x="70020" y="989351"/>
                  <a:pt x="104997" y="964368"/>
                  <a:pt x="30046" y="989351"/>
                </a:cubicBezTo>
                <a:cubicBezTo>
                  <a:pt x="20053" y="974361"/>
                  <a:pt x="2301" y="962258"/>
                  <a:pt x="66" y="944381"/>
                </a:cubicBezTo>
                <a:cubicBezTo>
                  <a:pt x="-1520" y="931694"/>
                  <a:pt x="25547" y="827465"/>
                  <a:pt x="30046" y="809469"/>
                </a:cubicBezTo>
                <a:cubicBezTo>
                  <a:pt x="35043" y="734518"/>
                  <a:pt x="36742" y="659275"/>
                  <a:pt x="45037" y="584617"/>
                </a:cubicBezTo>
                <a:cubicBezTo>
                  <a:pt x="46782" y="568912"/>
                  <a:pt x="56195" y="554975"/>
                  <a:pt x="60027" y="539646"/>
                </a:cubicBezTo>
                <a:lnTo>
                  <a:pt x="90007" y="419725"/>
                </a:lnTo>
                <a:cubicBezTo>
                  <a:pt x="85010" y="349771"/>
                  <a:pt x="75017" y="279995"/>
                  <a:pt x="75017" y="209863"/>
                </a:cubicBezTo>
                <a:cubicBezTo>
                  <a:pt x="75017" y="174531"/>
                  <a:pt x="70408" y="134330"/>
                  <a:pt x="90007" y="104932"/>
                </a:cubicBezTo>
                <a:cubicBezTo>
                  <a:pt x="98772" y="91785"/>
                  <a:pt x="119988" y="114925"/>
                  <a:pt x="134978" y="119922"/>
                </a:cubicBezTo>
                <a:cubicBezTo>
                  <a:pt x="139975" y="134912"/>
                  <a:pt x="141839" y="151343"/>
                  <a:pt x="149968" y="164892"/>
                </a:cubicBezTo>
                <a:cubicBezTo>
                  <a:pt x="157239" y="177011"/>
                  <a:pt x="179948" y="194873"/>
                  <a:pt x="179948" y="194873"/>
                </a:cubicBez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74"/>
          <p:cNvSpPr/>
          <p:nvPr/>
        </p:nvSpPr>
        <p:spPr>
          <a:xfrm rot="19630800">
            <a:off x="5291280" y="5514480"/>
            <a:ext cx="595080" cy="297000"/>
          </a:xfrm>
          <a:custGeom>
            <a:avLst/>
            <a:gdLst/>
            <a:ahLst/>
            <a:rect l="l" t="t" r="r" b="b"/>
            <a:pathLst>
              <a:path w="595389" h="349550">
                <a:moveTo>
                  <a:pt x="303" y="348343"/>
                </a:moveTo>
                <a:cubicBezTo>
                  <a:pt x="-4535" y="353181"/>
                  <a:pt x="49776" y="342491"/>
                  <a:pt x="72875" y="333829"/>
                </a:cubicBezTo>
                <a:cubicBezTo>
                  <a:pt x="134800" y="310607"/>
                  <a:pt x="102872" y="303830"/>
                  <a:pt x="145446" y="261257"/>
                </a:cubicBezTo>
                <a:cubicBezTo>
                  <a:pt x="157781" y="248922"/>
                  <a:pt x="175951" y="243818"/>
                  <a:pt x="188989" y="232229"/>
                </a:cubicBezTo>
                <a:cubicBezTo>
                  <a:pt x="219672" y="204955"/>
                  <a:pt x="241917" y="167915"/>
                  <a:pt x="276075" y="145143"/>
                </a:cubicBezTo>
                <a:cubicBezTo>
                  <a:pt x="305103" y="125791"/>
                  <a:pt x="335250" y="108019"/>
                  <a:pt x="363160" y="87086"/>
                </a:cubicBezTo>
                <a:cubicBezTo>
                  <a:pt x="382512" y="72572"/>
                  <a:pt x="400214" y="55545"/>
                  <a:pt x="421217" y="43543"/>
                </a:cubicBezTo>
                <a:cubicBezTo>
                  <a:pt x="452403" y="25722"/>
                  <a:pt x="527141" y="20004"/>
                  <a:pt x="551846" y="14514"/>
                </a:cubicBezTo>
                <a:cubicBezTo>
                  <a:pt x="566781" y="11195"/>
                  <a:pt x="580875" y="4838"/>
                  <a:pt x="595389" y="0"/>
                </a:cubicBezTo>
                <a:cubicBezTo>
                  <a:pt x="585713" y="14514"/>
                  <a:pt x="581153" y="34298"/>
                  <a:pt x="566360" y="43543"/>
                </a:cubicBezTo>
                <a:cubicBezTo>
                  <a:pt x="510727" y="78314"/>
                  <a:pt x="405144" y="80809"/>
                  <a:pt x="348646" y="87086"/>
                </a:cubicBezTo>
                <a:cubicBezTo>
                  <a:pt x="343808" y="101600"/>
                  <a:pt x="340974" y="116945"/>
                  <a:pt x="334132" y="130629"/>
                </a:cubicBezTo>
                <a:cubicBezTo>
                  <a:pt x="320744" y="157404"/>
                  <a:pt x="285635" y="201664"/>
                  <a:pt x="261560" y="217714"/>
                </a:cubicBezTo>
                <a:cubicBezTo>
                  <a:pt x="248830" y="226201"/>
                  <a:pt x="232531" y="227391"/>
                  <a:pt x="218017" y="232229"/>
                </a:cubicBezTo>
                <a:cubicBezTo>
                  <a:pt x="208341" y="246743"/>
                  <a:pt x="203781" y="266527"/>
                  <a:pt x="188989" y="275772"/>
                </a:cubicBezTo>
                <a:cubicBezTo>
                  <a:pt x="163041" y="291989"/>
                  <a:pt x="130932" y="295124"/>
                  <a:pt x="101903" y="304800"/>
                </a:cubicBezTo>
                <a:cubicBezTo>
                  <a:pt x="40001" y="325434"/>
                  <a:pt x="5141" y="343505"/>
                  <a:pt x="303" y="348343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任意多边形 57"/>
          <p:cNvSpPr/>
          <p:nvPr/>
        </p:nvSpPr>
        <p:spPr>
          <a:xfrm>
            <a:off x="5330880" y="4978440"/>
            <a:ext cx="177840" cy="977760"/>
          </a:xfrm>
          <a:custGeom>
            <a:avLst/>
            <a:gdLst/>
            <a:ahLst/>
            <a:rect l="l" t="t" r="r" b="b"/>
            <a:pathLst>
              <a:path w="600779" h="1856202">
                <a:moveTo>
                  <a:pt x="1449" y="52660"/>
                </a:moveTo>
                <a:cubicBezTo>
                  <a:pt x="-3389" y="108298"/>
                  <a:pt x="4503" y="275699"/>
                  <a:pt x="15964" y="386489"/>
                </a:cubicBezTo>
                <a:cubicBezTo>
                  <a:pt x="18529" y="411280"/>
                  <a:pt x="50966" y="482951"/>
                  <a:pt x="59507" y="517117"/>
                </a:cubicBezTo>
                <a:lnTo>
                  <a:pt x="103049" y="691289"/>
                </a:lnTo>
                <a:cubicBezTo>
                  <a:pt x="107887" y="710641"/>
                  <a:pt x="114285" y="729669"/>
                  <a:pt x="117564" y="749346"/>
                </a:cubicBezTo>
                <a:cubicBezTo>
                  <a:pt x="129745" y="822436"/>
                  <a:pt x="136994" y="880205"/>
                  <a:pt x="161107" y="952546"/>
                </a:cubicBezTo>
                <a:lnTo>
                  <a:pt x="204649" y="1083175"/>
                </a:lnTo>
                <a:lnTo>
                  <a:pt x="233678" y="1170260"/>
                </a:lnTo>
                <a:cubicBezTo>
                  <a:pt x="238516" y="1184774"/>
                  <a:pt x="239705" y="1201073"/>
                  <a:pt x="248192" y="1213803"/>
                </a:cubicBezTo>
                <a:lnTo>
                  <a:pt x="277221" y="1257346"/>
                </a:lnTo>
                <a:cubicBezTo>
                  <a:pt x="282059" y="1271860"/>
                  <a:pt x="284305" y="1287515"/>
                  <a:pt x="291735" y="1300889"/>
                </a:cubicBezTo>
                <a:cubicBezTo>
                  <a:pt x="308678" y="1331387"/>
                  <a:pt x="349792" y="1387975"/>
                  <a:pt x="349792" y="1387975"/>
                </a:cubicBezTo>
                <a:cubicBezTo>
                  <a:pt x="354630" y="1407327"/>
                  <a:pt x="358575" y="1426925"/>
                  <a:pt x="364307" y="1446032"/>
                </a:cubicBezTo>
                <a:cubicBezTo>
                  <a:pt x="373099" y="1475340"/>
                  <a:pt x="383659" y="1504089"/>
                  <a:pt x="393335" y="1533117"/>
                </a:cubicBezTo>
                <a:lnTo>
                  <a:pt x="407849" y="1576660"/>
                </a:lnTo>
                <a:lnTo>
                  <a:pt x="436878" y="1663746"/>
                </a:lnTo>
                <a:cubicBezTo>
                  <a:pt x="448683" y="1699161"/>
                  <a:pt x="452284" y="1722695"/>
                  <a:pt x="480421" y="1750832"/>
                </a:cubicBezTo>
                <a:cubicBezTo>
                  <a:pt x="492756" y="1763167"/>
                  <a:pt x="509450" y="1770184"/>
                  <a:pt x="523964" y="1779860"/>
                </a:cubicBezTo>
                <a:cubicBezTo>
                  <a:pt x="533640" y="1794374"/>
                  <a:pt x="540657" y="1811068"/>
                  <a:pt x="552992" y="1823403"/>
                </a:cubicBezTo>
                <a:cubicBezTo>
                  <a:pt x="565327" y="1835738"/>
                  <a:pt x="586859" y="1866946"/>
                  <a:pt x="596535" y="1852432"/>
                </a:cubicBezTo>
                <a:cubicBezTo>
                  <a:pt x="610219" y="1831906"/>
                  <a:pt x="586859" y="1804051"/>
                  <a:pt x="582021" y="1779860"/>
                </a:cubicBezTo>
                <a:cubicBezTo>
                  <a:pt x="561030" y="1506978"/>
                  <a:pt x="581672" y="1676339"/>
                  <a:pt x="552992" y="1518603"/>
                </a:cubicBezTo>
                <a:cubicBezTo>
                  <a:pt x="547728" y="1489649"/>
                  <a:pt x="545616" y="1460067"/>
                  <a:pt x="538478" y="1431517"/>
                </a:cubicBezTo>
                <a:cubicBezTo>
                  <a:pt x="531057" y="1401832"/>
                  <a:pt x="509449" y="1344432"/>
                  <a:pt x="509449" y="1344432"/>
                </a:cubicBezTo>
                <a:cubicBezTo>
                  <a:pt x="499773" y="1286375"/>
                  <a:pt x="499033" y="1226098"/>
                  <a:pt x="480421" y="1170260"/>
                </a:cubicBezTo>
                <a:cubicBezTo>
                  <a:pt x="475583" y="1155746"/>
                  <a:pt x="473337" y="1140091"/>
                  <a:pt x="465907" y="1126717"/>
                </a:cubicBezTo>
                <a:cubicBezTo>
                  <a:pt x="448964" y="1096220"/>
                  <a:pt x="407849" y="1039632"/>
                  <a:pt x="407849" y="1039632"/>
                </a:cubicBezTo>
                <a:cubicBezTo>
                  <a:pt x="403011" y="1020280"/>
                  <a:pt x="399067" y="1000682"/>
                  <a:pt x="393335" y="981575"/>
                </a:cubicBezTo>
                <a:cubicBezTo>
                  <a:pt x="384543" y="952267"/>
                  <a:pt x="370308" y="924494"/>
                  <a:pt x="364307" y="894489"/>
                </a:cubicBezTo>
                <a:lnTo>
                  <a:pt x="335278" y="749346"/>
                </a:lnTo>
                <a:cubicBezTo>
                  <a:pt x="330440" y="691289"/>
                  <a:pt x="332189" y="632302"/>
                  <a:pt x="320764" y="575175"/>
                </a:cubicBezTo>
                <a:cubicBezTo>
                  <a:pt x="317343" y="558070"/>
                  <a:pt x="299536" y="547234"/>
                  <a:pt x="291735" y="531632"/>
                </a:cubicBezTo>
                <a:cubicBezTo>
                  <a:pt x="255231" y="458625"/>
                  <a:pt x="310694" y="492533"/>
                  <a:pt x="219164" y="401003"/>
                </a:cubicBezTo>
                <a:cubicBezTo>
                  <a:pt x="150951" y="332790"/>
                  <a:pt x="187007" y="374539"/>
                  <a:pt x="117564" y="270375"/>
                </a:cubicBezTo>
                <a:lnTo>
                  <a:pt x="88535" y="226832"/>
                </a:lnTo>
                <a:cubicBezTo>
                  <a:pt x="62598" y="149018"/>
                  <a:pt x="82862" y="215814"/>
                  <a:pt x="59507" y="110717"/>
                </a:cubicBezTo>
                <a:cubicBezTo>
                  <a:pt x="55180" y="91244"/>
                  <a:pt x="56057" y="69258"/>
                  <a:pt x="44992" y="52660"/>
                </a:cubicBezTo>
                <a:cubicBezTo>
                  <a:pt x="-10628" y="-30768"/>
                  <a:pt x="6287" y="-2978"/>
                  <a:pt x="1449" y="5266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任意多边形 116"/>
          <p:cNvSpPr/>
          <p:nvPr/>
        </p:nvSpPr>
        <p:spPr>
          <a:xfrm>
            <a:off x="7448400" y="4365720"/>
            <a:ext cx="1551240" cy="2525760"/>
          </a:xfrm>
          <a:custGeom>
            <a:avLst/>
            <a:gdLst/>
            <a:ahLst/>
            <a:rect l="l" t="t" r="r" b="b"/>
            <a:pathLst>
              <a:path w="1550431" h="2525485">
                <a:moveTo>
                  <a:pt x="26431" y="2496457"/>
                </a:moveTo>
                <a:cubicBezTo>
                  <a:pt x="28850" y="2465009"/>
                  <a:pt x="44514" y="2404018"/>
                  <a:pt x="99003" y="2322285"/>
                </a:cubicBezTo>
                <a:cubicBezTo>
                  <a:pt x="106367" y="2292827"/>
                  <a:pt x="115538" y="2249834"/>
                  <a:pt x="128031" y="2220685"/>
                </a:cubicBezTo>
                <a:cubicBezTo>
                  <a:pt x="136554" y="2200798"/>
                  <a:pt x="147384" y="2181980"/>
                  <a:pt x="157060" y="2162628"/>
                </a:cubicBezTo>
                <a:cubicBezTo>
                  <a:pt x="161898" y="2109409"/>
                  <a:pt x="165980" y="2056116"/>
                  <a:pt x="171574" y="2002971"/>
                </a:cubicBezTo>
                <a:cubicBezTo>
                  <a:pt x="175657" y="1964179"/>
                  <a:pt x="182849" y="1925728"/>
                  <a:pt x="186088" y="1886857"/>
                </a:cubicBezTo>
                <a:cubicBezTo>
                  <a:pt x="192529" y="1809564"/>
                  <a:pt x="195765" y="1732038"/>
                  <a:pt x="200603" y="1654628"/>
                </a:cubicBezTo>
                <a:cubicBezTo>
                  <a:pt x="190627" y="1604752"/>
                  <a:pt x="185237" y="1571822"/>
                  <a:pt x="171574" y="1524000"/>
                </a:cubicBezTo>
                <a:cubicBezTo>
                  <a:pt x="167371" y="1509289"/>
                  <a:pt x="161086" y="1495217"/>
                  <a:pt x="157060" y="1480457"/>
                </a:cubicBezTo>
                <a:cubicBezTo>
                  <a:pt x="146563" y="1441967"/>
                  <a:pt x="128031" y="1364342"/>
                  <a:pt x="128031" y="1364342"/>
                </a:cubicBezTo>
                <a:cubicBezTo>
                  <a:pt x="122313" y="1267126"/>
                  <a:pt x="126607" y="1146243"/>
                  <a:pt x="99003" y="1045028"/>
                </a:cubicBezTo>
                <a:cubicBezTo>
                  <a:pt x="90952" y="1015507"/>
                  <a:pt x="79650" y="986971"/>
                  <a:pt x="69974" y="957942"/>
                </a:cubicBezTo>
                <a:lnTo>
                  <a:pt x="55460" y="914400"/>
                </a:lnTo>
                <a:cubicBezTo>
                  <a:pt x="57216" y="903864"/>
                  <a:pt x="68608" y="807591"/>
                  <a:pt x="84488" y="783771"/>
                </a:cubicBezTo>
                <a:cubicBezTo>
                  <a:pt x="95874" y="766692"/>
                  <a:pt x="114890" y="755997"/>
                  <a:pt x="128031" y="740228"/>
                </a:cubicBezTo>
                <a:cubicBezTo>
                  <a:pt x="139198" y="726827"/>
                  <a:pt x="147384" y="711199"/>
                  <a:pt x="157060" y="696685"/>
                </a:cubicBezTo>
                <a:cubicBezTo>
                  <a:pt x="191571" y="593150"/>
                  <a:pt x="142635" y="718322"/>
                  <a:pt x="215117" y="609600"/>
                </a:cubicBezTo>
                <a:cubicBezTo>
                  <a:pt x="299141" y="483565"/>
                  <a:pt x="134264" y="661424"/>
                  <a:pt x="273174" y="522514"/>
                </a:cubicBezTo>
                <a:cubicBezTo>
                  <a:pt x="278012" y="508000"/>
                  <a:pt x="280846" y="492655"/>
                  <a:pt x="287688" y="478971"/>
                </a:cubicBezTo>
                <a:cubicBezTo>
                  <a:pt x="295489" y="463369"/>
                  <a:pt x="310592" y="451761"/>
                  <a:pt x="316717" y="435428"/>
                </a:cubicBezTo>
                <a:cubicBezTo>
                  <a:pt x="324853" y="413733"/>
                  <a:pt x="341669" y="292074"/>
                  <a:pt x="345745" y="275771"/>
                </a:cubicBezTo>
                <a:cubicBezTo>
                  <a:pt x="353166" y="246086"/>
                  <a:pt x="365098" y="217714"/>
                  <a:pt x="374774" y="188685"/>
                </a:cubicBezTo>
                <a:cubicBezTo>
                  <a:pt x="379612" y="174171"/>
                  <a:pt x="376558" y="153628"/>
                  <a:pt x="389288" y="145142"/>
                </a:cubicBezTo>
                <a:cubicBezTo>
                  <a:pt x="403802" y="135466"/>
                  <a:pt x="419793" y="127703"/>
                  <a:pt x="432831" y="116114"/>
                </a:cubicBezTo>
                <a:cubicBezTo>
                  <a:pt x="463514" y="88840"/>
                  <a:pt x="480971" y="42010"/>
                  <a:pt x="519917" y="29028"/>
                </a:cubicBezTo>
                <a:lnTo>
                  <a:pt x="607003" y="0"/>
                </a:lnTo>
                <a:lnTo>
                  <a:pt x="737631" y="43542"/>
                </a:lnTo>
                <a:lnTo>
                  <a:pt x="781174" y="58057"/>
                </a:lnTo>
                <a:cubicBezTo>
                  <a:pt x="884908" y="213656"/>
                  <a:pt x="723363" y="-22491"/>
                  <a:pt x="853745" y="145142"/>
                </a:cubicBezTo>
                <a:cubicBezTo>
                  <a:pt x="875164" y="172681"/>
                  <a:pt x="892450" y="203199"/>
                  <a:pt x="911803" y="232228"/>
                </a:cubicBezTo>
                <a:lnTo>
                  <a:pt x="940831" y="275771"/>
                </a:lnTo>
                <a:lnTo>
                  <a:pt x="969860" y="319314"/>
                </a:lnTo>
                <a:cubicBezTo>
                  <a:pt x="974698" y="333828"/>
                  <a:pt x="976944" y="349483"/>
                  <a:pt x="984374" y="362857"/>
                </a:cubicBezTo>
                <a:cubicBezTo>
                  <a:pt x="1001317" y="393354"/>
                  <a:pt x="1042431" y="449942"/>
                  <a:pt x="1042431" y="449942"/>
                </a:cubicBezTo>
                <a:cubicBezTo>
                  <a:pt x="1078911" y="559386"/>
                  <a:pt x="1025459" y="428728"/>
                  <a:pt x="1100488" y="522514"/>
                </a:cubicBezTo>
                <a:cubicBezTo>
                  <a:pt x="1110046" y="534461"/>
                  <a:pt x="1107573" y="552683"/>
                  <a:pt x="1115003" y="566057"/>
                </a:cubicBezTo>
                <a:cubicBezTo>
                  <a:pt x="1131946" y="596554"/>
                  <a:pt x="1153708" y="624114"/>
                  <a:pt x="1173060" y="653142"/>
                </a:cubicBezTo>
                <a:lnTo>
                  <a:pt x="1231117" y="740228"/>
                </a:lnTo>
                <a:lnTo>
                  <a:pt x="1274660" y="769257"/>
                </a:lnTo>
                <a:cubicBezTo>
                  <a:pt x="1313364" y="885372"/>
                  <a:pt x="1255308" y="749905"/>
                  <a:pt x="1332717" y="827314"/>
                </a:cubicBezTo>
                <a:cubicBezTo>
                  <a:pt x="1410126" y="904723"/>
                  <a:pt x="1274659" y="846667"/>
                  <a:pt x="1390774" y="885371"/>
                </a:cubicBezTo>
                <a:cubicBezTo>
                  <a:pt x="1405288" y="899885"/>
                  <a:pt x="1422931" y="911835"/>
                  <a:pt x="1434317" y="928914"/>
                </a:cubicBezTo>
                <a:cubicBezTo>
                  <a:pt x="1442804" y="941644"/>
                  <a:pt x="1441989" y="958773"/>
                  <a:pt x="1448831" y="972457"/>
                </a:cubicBezTo>
                <a:cubicBezTo>
                  <a:pt x="1456632" y="988059"/>
                  <a:pt x="1468184" y="1001486"/>
                  <a:pt x="1477860" y="1016000"/>
                </a:cubicBezTo>
                <a:cubicBezTo>
                  <a:pt x="1482698" y="1030514"/>
                  <a:pt x="1488349" y="1044782"/>
                  <a:pt x="1492374" y="1059542"/>
                </a:cubicBezTo>
                <a:cubicBezTo>
                  <a:pt x="1502871" y="1098032"/>
                  <a:pt x="1508787" y="1137808"/>
                  <a:pt x="1521403" y="1175657"/>
                </a:cubicBezTo>
                <a:lnTo>
                  <a:pt x="1550431" y="1262742"/>
                </a:lnTo>
                <a:cubicBezTo>
                  <a:pt x="1545593" y="1388533"/>
                  <a:pt x="1544578" y="1514529"/>
                  <a:pt x="1535917" y="1640114"/>
                </a:cubicBezTo>
                <a:cubicBezTo>
                  <a:pt x="1534864" y="1655377"/>
                  <a:pt x="1524404" y="1668655"/>
                  <a:pt x="1521403" y="1683657"/>
                </a:cubicBezTo>
                <a:cubicBezTo>
                  <a:pt x="1488047" y="1850437"/>
                  <a:pt x="1525165" y="1730426"/>
                  <a:pt x="1492374" y="1828800"/>
                </a:cubicBezTo>
                <a:cubicBezTo>
                  <a:pt x="1487536" y="1882019"/>
                  <a:pt x="1485417" y="1935556"/>
                  <a:pt x="1477860" y="1988457"/>
                </a:cubicBezTo>
                <a:cubicBezTo>
                  <a:pt x="1475696" y="2003603"/>
                  <a:pt x="1466785" y="2017092"/>
                  <a:pt x="1463345" y="2032000"/>
                </a:cubicBezTo>
                <a:cubicBezTo>
                  <a:pt x="1452251" y="2080075"/>
                  <a:pt x="1434317" y="2177142"/>
                  <a:pt x="1434317" y="2177142"/>
                </a:cubicBezTo>
                <a:cubicBezTo>
                  <a:pt x="1402447" y="2495848"/>
                  <a:pt x="1440162" y="2226335"/>
                  <a:pt x="1405288" y="2365828"/>
                </a:cubicBezTo>
                <a:cubicBezTo>
                  <a:pt x="1399305" y="2389761"/>
                  <a:pt x="1403014" y="2416981"/>
                  <a:pt x="1390774" y="2438400"/>
                </a:cubicBezTo>
                <a:cubicBezTo>
                  <a:pt x="1382119" y="2453546"/>
                  <a:pt x="1364376" y="2464213"/>
                  <a:pt x="1347231" y="2467428"/>
                </a:cubicBezTo>
                <a:cubicBezTo>
                  <a:pt x="1285230" y="2479053"/>
                  <a:pt x="1221440" y="2477104"/>
                  <a:pt x="1158545" y="2481942"/>
                </a:cubicBezTo>
                <a:cubicBezTo>
                  <a:pt x="1138007" y="2488788"/>
                  <a:pt x="1075176" y="2510971"/>
                  <a:pt x="1056945" y="2510971"/>
                </a:cubicBezTo>
                <a:cubicBezTo>
                  <a:pt x="950397" y="2510971"/>
                  <a:pt x="844069" y="2501295"/>
                  <a:pt x="737631" y="2496457"/>
                </a:cubicBezTo>
                <a:cubicBezTo>
                  <a:pt x="600449" y="2469019"/>
                  <a:pt x="653703" y="2473207"/>
                  <a:pt x="432831" y="2496457"/>
                </a:cubicBezTo>
                <a:cubicBezTo>
                  <a:pt x="417616" y="2498059"/>
                  <a:pt x="404223" y="2507652"/>
                  <a:pt x="389288" y="2510971"/>
                </a:cubicBezTo>
                <a:cubicBezTo>
                  <a:pt x="360560" y="2517355"/>
                  <a:pt x="331231" y="2520647"/>
                  <a:pt x="302203" y="2525485"/>
                </a:cubicBezTo>
                <a:cubicBezTo>
                  <a:pt x="229631" y="2520647"/>
                  <a:pt x="156776" y="2519003"/>
                  <a:pt x="84488" y="2510971"/>
                </a:cubicBezTo>
                <a:cubicBezTo>
                  <a:pt x="-59910" y="2494927"/>
                  <a:pt x="24012" y="2527905"/>
                  <a:pt x="26431" y="2496457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任意多边形 115" descr=""/>
          <p:cNvPicPr/>
          <p:nvPr/>
        </p:nvPicPr>
        <p:blipFill>
          <a:blip r:embed="rId1"/>
          <a:stretch/>
        </p:blipFill>
        <p:spPr>
          <a:xfrm>
            <a:off x="7524720" y="4581360"/>
            <a:ext cx="1603440" cy="2374920"/>
          </a:xfrm>
          <a:prstGeom prst="rect">
            <a:avLst/>
          </a:prstGeom>
          <a:ln w="0">
            <a:noFill/>
          </a:ln>
        </p:spPr>
      </p:pic>
      <p:pic>
        <p:nvPicPr>
          <p:cNvPr id="47" name="任意多边形 112" descr=""/>
          <p:cNvPicPr/>
          <p:nvPr/>
        </p:nvPicPr>
        <p:blipFill>
          <a:blip r:embed="rId2"/>
          <a:stretch/>
        </p:blipFill>
        <p:spPr>
          <a:xfrm>
            <a:off x="7740720" y="1889280"/>
            <a:ext cx="1438200" cy="3627360"/>
          </a:xfrm>
          <a:prstGeom prst="rect">
            <a:avLst/>
          </a:prstGeom>
          <a:ln w="0">
            <a:noFill/>
          </a:ln>
        </p:spPr>
      </p:pic>
      <p:pic>
        <p:nvPicPr>
          <p:cNvPr id="48" name="任意多边形 111" descr=""/>
          <p:cNvPicPr/>
          <p:nvPr/>
        </p:nvPicPr>
        <p:blipFill>
          <a:blip r:embed="rId3"/>
          <a:stretch/>
        </p:blipFill>
        <p:spPr>
          <a:xfrm>
            <a:off x="6356520" y="-28440"/>
            <a:ext cx="2830320" cy="2162160"/>
          </a:xfrm>
          <a:prstGeom prst="rect">
            <a:avLst/>
          </a:prstGeom>
          <a:ln w="0">
            <a:noFill/>
          </a:ln>
        </p:spPr>
      </p:pic>
      <p:pic>
        <p:nvPicPr>
          <p:cNvPr id="49" name="任意多边形 110" descr=""/>
          <p:cNvPicPr/>
          <p:nvPr/>
        </p:nvPicPr>
        <p:blipFill>
          <a:blip r:embed="rId4"/>
          <a:stretch/>
        </p:blipFill>
        <p:spPr>
          <a:xfrm>
            <a:off x="6534000" y="-71280"/>
            <a:ext cx="2610000" cy="2203200"/>
          </a:xfrm>
          <a:prstGeom prst="rect">
            <a:avLst/>
          </a:prstGeom>
          <a:ln w="0">
            <a:noFill/>
          </a:ln>
        </p:spPr>
      </p:pic>
      <p:pic>
        <p:nvPicPr>
          <p:cNvPr id="50" name="任意多边形 109" descr=""/>
          <p:cNvPicPr/>
          <p:nvPr/>
        </p:nvPicPr>
        <p:blipFill>
          <a:blip r:embed="rId5"/>
          <a:stretch/>
        </p:blipFill>
        <p:spPr>
          <a:xfrm>
            <a:off x="6721560" y="14400"/>
            <a:ext cx="2262240" cy="3338280"/>
          </a:xfrm>
          <a:prstGeom prst="rect">
            <a:avLst/>
          </a:prstGeom>
          <a:ln w="0">
            <a:noFill/>
          </a:ln>
        </p:spPr>
      </p:pic>
      <p:sp>
        <p:nvSpPr>
          <p:cNvPr id="51" name="任意多边形 1"/>
          <p:cNvSpPr/>
          <p:nvPr/>
        </p:nvSpPr>
        <p:spPr>
          <a:xfrm>
            <a:off x="4680" y="182520"/>
            <a:ext cx="606600" cy="582480"/>
          </a:xfrm>
          <a:custGeom>
            <a:avLst/>
            <a:gdLst/>
            <a:ahLst/>
            <a:rect l="l" t="t" r="r" b="b"/>
            <a:pathLst>
              <a:path w="606342" h="581787">
                <a:moveTo>
                  <a:pt x="20742" y="59272"/>
                </a:moveTo>
                <a:cubicBezTo>
                  <a:pt x="52190" y="44758"/>
                  <a:pt x="138623" y="59769"/>
                  <a:pt x="194914" y="44758"/>
                </a:cubicBezTo>
                <a:cubicBezTo>
                  <a:pt x="214747" y="39469"/>
                  <a:pt x="218720" y="6854"/>
                  <a:pt x="238457" y="1215"/>
                </a:cubicBezTo>
                <a:cubicBezTo>
                  <a:pt x="257637" y="-4265"/>
                  <a:pt x="277334" y="10249"/>
                  <a:pt x="296514" y="15729"/>
                </a:cubicBezTo>
                <a:cubicBezTo>
                  <a:pt x="349092" y="30752"/>
                  <a:pt x="335893" y="27468"/>
                  <a:pt x="383599" y="59272"/>
                </a:cubicBezTo>
                <a:cubicBezTo>
                  <a:pt x="395404" y="94685"/>
                  <a:pt x="399007" y="118223"/>
                  <a:pt x="427142" y="146358"/>
                </a:cubicBezTo>
                <a:cubicBezTo>
                  <a:pt x="439477" y="158693"/>
                  <a:pt x="456171" y="165711"/>
                  <a:pt x="470685" y="175387"/>
                </a:cubicBezTo>
                <a:cubicBezTo>
                  <a:pt x="480361" y="189901"/>
                  <a:pt x="492629" y="202989"/>
                  <a:pt x="499714" y="218929"/>
                </a:cubicBezTo>
                <a:cubicBezTo>
                  <a:pt x="512141" y="246891"/>
                  <a:pt x="503282" y="289042"/>
                  <a:pt x="528742" y="306015"/>
                </a:cubicBezTo>
                <a:lnTo>
                  <a:pt x="572285" y="335044"/>
                </a:lnTo>
                <a:cubicBezTo>
                  <a:pt x="601585" y="422942"/>
                  <a:pt x="624142" y="450063"/>
                  <a:pt x="586799" y="552758"/>
                </a:cubicBezTo>
                <a:cubicBezTo>
                  <a:pt x="580838" y="569152"/>
                  <a:pt x="557771" y="572111"/>
                  <a:pt x="543257" y="581787"/>
                </a:cubicBezTo>
                <a:cubicBezTo>
                  <a:pt x="387651" y="478048"/>
                  <a:pt x="623816" y="639605"/>
                  <a:pt x="456171" y="509215"/>
                </a:cubicBezTo>
                <a:cubicBezTo>
                  <a:pt x="428632" y="487796"/>
                  <a:pt x="369085" y="451158"/>
                  <a:pt x="369085" y="451158"/>
                </a:cubicBezTo>
                <a:lnTo>
                  <a:pt x="311028" y="364072"/>
                </a:lnTo>
                <a:cubicBezTo>
                  <a:pt x="299519" y="346809"/>
                  <a:pt x="260321" y="281846"/>
                  <a:pt x="238457" y="276987"/>
                </a:cubicBezTo>
                <a:cubicBezTo>
                  <a:pt x="167456" y="261209"/>
                  <a:pt x="93314" y="267310"/>
                  <a:pt x="20742" y="262472"/>
                </a:cubicBezTo>
                <a:cubicBezTo>
                  <a:pt x="15904" y="218929"/>
                  <a:pt x="13430" y="175059"/>
                  <a:pt x="6228" y="131844"/>
                </a:cubicBezTo>
                <a:cubicBezTo>
                  <a:pt x="1744" y="104938"/>
                  <a:pt x="-10706" y="73786"/>
                  <a:pt x="20742" y="59272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2"/>
          <p:cNvSpPr/>
          <p:nvPr/>
        </p:nvSpPr>
        <p:spPr>
          <a:xfrm>
            <a:off x="539640" y="549360"/>
            <a:ext cx="1778040" cy="1306440"/>
          </a:xfrm>
          <a:custGeom>
            <a:avLst/>
            <a:gdLst/>
            <a:ahLst/>
            <a:rect l="l" t="t" r="r" b="b"/>
            <a:pathLst>
              <a:path w="1778015" h="1307000">
                <a:moveTo>
                  <a:pt x="21787" y="13793"/>
                </a:moveTo>
                <a:cubicBezTo>
                  <a:pt x="77425" y="8955"/>
                  <a:pt x="132968" y="-14666"/>
                  <a:pt x="370129" y="13793"/>
                </a:cubicBezTo>
                <a:cubicBezTo>
                  <a:pt x="400510" y="17439"/>
                  <a:pt x="428186" y="33146"/>
                  <a:pt x="457215" y="42822"/>
                </a:cubicBezTo>
                <a:lnTo>
                  <a:pt x="500758" y="57336"/>
                </a:lnTo>
                <a:cubicBezTo>
                  <a:pt x="515272" y="67012"/>
                  <a:pt x="528360" y="79280"/>
                  <a:pt x="544301" y="86365"/>
                </a:cubicBezTo>
                <a:cubicBezTo>
                  <a:pt x="572263" y="98792"/>
                  <a:pt x="631387" y="115393"/>
                  <a:pt x="631387" y="115393"/>
                </a:cubicBezTo>
                <a:cubicBezTo>
                  <a:pt x="700388" y="161395"/>
                  <a:pt x="658382" y="138907"/>
                  <a:pt x="762015" y="173451"/>
                </a:cubicBezTo>
                <a:lnTo>
                  <a:pt x="805558" y="187965"/>
                </a:lnTo>
                <a:lnTo>
                  <a:pt x="849101" y="202479"/>
                </a:lnTo>
                <a:cubicBezTo>
                  <a:pt x="878130" y="221831"/>
                  <a:pt x="911518" y="235866"/>
                  <a:pt x="936187" y="260536"/>
                </a:cubicBezTo>
                <a:cubicBezTo>
                  <a:pt x="992064" y="316414"/>
                  <a:pt x="962650" y="292693"/>
                  <a:pt x="1023272" y="333108"/>
                </a:cubicBezTo>
                <a:cubicBezTo>
                  <a:pt x="1088195" y="430491"/>
                  <a:pt x="1011715" y="335079"/>
                  <a:pt x="1095844" y="391165"/>
                </a:cubicBezTo>
                <a:cubicBezTo>
                  <a:pt x="1204988" y="463927"/>
                  <a:pt x="1082734" y="403280"/>
                  <a:pt x="1168415" y="478251"/>
                </a:cubicBezTo>
                <a:cubicBezTo>
                  <a:pt x="1194671" y="501225"/>
                  <a:pt x="1226472" y="516956"/>
                  <a:pt x="1255501" y="536308"/>
                </a:cubicBezTo>
                <a:lnTo>
                  <a:pt x="1299044" y="565336"/>
                </a:lnTo>
                <a:cubicBezTo>
                  <a:pt x="1376449" y="681446"/>
                  <a:pt x="1274857" y="541150"/>
                  <a:pt x="1371615" y="637908"/>
                </a:cubicBezTo>
                <a:cubicBezTo>
                  <a:pt x="1468373" y="734666"/>
                  <a:pt x="1328077" y="633074"/>
                  <a:pt x="1444187" y="710479"/>
                </a:cubicBezTo>
                <a:cubicBezTo>
                  <a:pt x="1456967" y="748819"/>
                  <a:pt x="1479327" y="828631"/>
                  <a:pt x="1516758" y="841108"/>
                </a:cubicBezTo>
                <a:lnTo>
                  <a:pt x="1560301" y="855622"/>
                </a:lnTo>
                <a:cubicBezTo>
                  <a:pt x="1585808" y="932144"/>
                  <a:pt x="1557957" y="870227"/>
                  <a:pt x="1618358" y="942708"/>
                </a:cubicBezTo>
                <a:cubicBezTo>
                  <a:pt x="1629525" y="956109"/>
                  <a:pt x="1636220" y="972850"/>
                  <a:pt x="1647387" y="986251"/>
                </a:cubicBezTo>
                <a:cubicBezTo>
                  <a:pt x="1740516" y="1098006"/>
                  <a:pt x="1647884" y="965226"/>
                  <a:pt x="1719958" y="1073336"/>
                </a:cubicBezTo>
                <a:lnTo>
                  <a:pt x="1763501" y="1203965"/>
                </a:lnTo>
                <a:lnTo>
                  <a:pt x="1778015" y="1247508"/>
                </a:lnTo>
                <a:cubicBezTo>
                  <a:pt x="1773177" y="1266860"/>
                  <a:pt x="1779459" y="1293596"/>
                  <a:pt x="1763501" y="1305565"/>
                </a:cubicBezTo>
                <a:cubicBezTo>
                  <a:pt x="1749361" y="1316170"/>
                  <a:pt x="1680294" y="1264608"/>
                  <a:pt x="1676415" y="1262022"/>
                </a:cubicBezTo>
                <a:cubicBezTo>
                  <a:pt x="1665311" y="1217606"/>
                  <a:pt x="1666284" y="1193834"/>
                  <a:pt x="1632872" y="1160422"/>
                </a:cubicBezTo>
                <a:cubicBezTo>
                  <a:pt x="1620537" y="1148087"/>
                  <a:pt x="1603843" y="1141069"/>
                  <a:pt x="1589329" y="1131393"/>
                </a:cubicBezTo>
                <a:cubicBezTo>
                  <a:pt x="1554785" y="1027759"/>
                  <a:pt x="1577274" y="1069767"/>
                  <a:pt x="1531272" y="1000765"/>
                </a:cubicBezTo>
                <a:cubicBezTo>
                  <a:pt x="1519467" y="965349"/>
                  <a:pt x="1515866" y="941816"/>
                  <a:pt x="1487729" y="913679"/>
                </a:cubicBezTo>
                <a:cubicBezTo>
                  <a:pt x="1475394" y="901344"/>
                  <a:pt x="1458701" y="894327"/>
                  <a:pt x="1444187" y="884651"/>
                </a:cubicBezTo>
                <a:cubicBezTo>
                  <a:pt x="1366774" y="768532"/>
                  <a:pt x="1468380" y="908846"/>
                  <a:pt x="1371615" y="812079"/>
                </a:cubicBezTo>
                <a:cubicBezTo>
                  <a:pt x="1359280" y="799744"/>
                  <a:pt x="1354922" y="780871"/>
                  <a:pt x="1342587" y="768536"/>
                </a:cubicBezTo>
                <a:cubicBezTo>
                  <a:pt x="1330252" y="756201"/>
                  <a:pt x="1312445" y="750675"/>
                  <a:pt x="1299044" y="739508"/>
                </a:cubicBezTo>
                <a:cubicBezTo>
                  <a:pt x="1162611" y="625815"/>
                  <a:pt x="1388532" y="784653"/>
                  <a:pt x="1168415" y="637908"/>
                </a:cubicBezTo>
                <a:lnTo>
                  <a:pt x="1081329" y="579851"/>
                </a:lnTo>
                <a:lnTo>
                  <a:pt x="1037787" y="550822"/>
                </a:lnTo>
                <a:cubicBezTo>
                  <a:pt x="1028111" y="536308"/>
                  <a:pt x="1022380" y="518176"/>
                  <a:pt x="1008758" y="507279"/>
                </a:cubicBezTo>
                <a:cubicBezTo>
                  <a:pt x="996811" y="497722"/>
                  <a:pt x="976033" y="503583"/>
                  <a:pt x="965215" y="492765"/>
                </a:cubicBezTo>
                <a:cubicBezTo>
                  <a:pt x="887806" y="415356"/>
                  <a:pt x="1023273" y="473412"/>
                  <a:pt x="907158" y="434708"/>
                </a:cubicBezTo>
                <a:cubicBezTo>
                  <a:pt x="824614" y="352164"/>
                  <a:pt x="904094" y="418662"/>
                  <a:pt x="820072" y="376651"/>
                </a:cubicBezTo>
                <a:cubicBezTo>
                  <a:pt x="804470" y="368850"/>
                  <a:pt x="792470" y="354707"/>
                  <a:pt x="776529" y="347622"/>
                </a:cubicBezTo>
                <a:cubicBezTo>
                  <a:pt x="748568" y="335195"/>
                  <a:pt x="718472" y="328269"/>
                  <a:pt x="689444" y="318593"/>
                </a:cubicBezTo>
                <a:cubicBezTo>
                  <a:pt x="674930" y="313755"/>
                  <a:pt x="658631" y="312566"/>
                  <a:pt x="645901" y="304079"/>
                </a:cubicBezTo>
                <a:cubicBezTo>
                  <a:pt x="612782" y="282000"/>
                  <a:pt x="545386" y="231869"/>
                  <a:pt x="500758" y="216993"/>
                </a:cubicBezTo>
                <a:cubicBezTo>
                  <a:pt x="462910" y="204377"/>
                  <a:pt x="422492" y="200581"/>
                  <a:pt x="384644" y="187965"/>
                </a:cubicBezTo>
                <a:cubicBezTo>
                  <a:pt x="355615" y="178289"/>
                  <a:pt x="327970" y="162315"/>
                  <a:pt x="297558" y="158936"/>
                </a:cubicBezTo>
                <a:cubicBezTo>
                  <a:pt x="137680" y="141172"/>
                  <a:pt x="210144" y="151624"/>
                  <a:pt x="79844" y="129908"/>
                </a:cubicBezTo>
                <a:cubicBezTo>
                  <a:pt x="55379" y="93210"/>
                  <a:pt x="44885" y="85746"/>
                  <a:pt x="36301" y="42822"/>
                </a:cubicBezTo>
                <a:cubicBezTo>
                  <a:pt x="34403" y="33334"/>
                  <a:pt x="-33851" y="18631"/>
                  <a:pt x="21787" y="13793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4"/>
          <p:cNvSpPr/>
          <p:nvPr/>
        </p:nvSpPr>
        <p:spPr>
          <a:xfrm>
            <a:off x="755640" y="717480"/>
            <a:ext cx="144360" cy="452520"/>
          </a:xfrm>
          <a:custGeom>
            <a:avLst/>
            <a:gdLst/>
            <a:ahLst/>
            <a:rect l="l" t="t" r="r" b="b"/>
            <a:pathLst>
              <a:path w="145142" h="451369">
                <a:moveTo>
                  <a:pt x="101600" y="1426"/>
                </a:moveTo>
                <a:cubicBezTo>
                  <a:pt x="118533" y="8683"/>
                  <a:pt x="110131" y="50064"/>
                  <a:pt x="116114" y="73997"/>
                </a:cubicBezTo>
                <a:cubicBezTo>
                  <a:pt x="119825" y="88840"/>
                  <a:pt x="130628" y="102241"/>
                  <a:pt x="130628" y="117540"/>
                </a:cubicBezTo>
                <a:cubicBezTo>
                  <a:pt x="130628" y="142210"/>
                  <a:pt x="120952" y="165921"/>
                  <a:pt x="116114" y="190112"/>
                </a:cubicBezTo>
                <a:cubicBezTo>
                  <a:pt x="120952" y="219140"/>
                  <a:pt x="124857" y="248340"/>
                  <a:pt x="130628" y="277197"/>
                </a:cubicBezTo>
                <a:cubicBezTo>
                  <a:pt x="134540" y="296758"/>
                  <a:pt x="145142" y="315307"/>
                  <a:pt x="145142" y="335255"/>
                </a:cubicBezTo>
                <a:cubicBezTo>
                  <a:pt x="145142" y="374261"/>
                  <a:pt x="135466" y="412664"/>
                  <a:pt x="130628" y="451369"/>
                </a:cubicBezTo>
                <a:cubicBezTo>
                  <a:pt x="116114" y="446531"/>
                  <a:pt x="94676" y="450139"/>
                  <a:pt x="87085" y="436855"/>
                </a:cubicBezTo>
                <a:cubicBezTo>
                  <a:pt x="72484" y="411303"/>
                  <a:pt x="81877" y="377688"/>
                  <a:pt x="72571" y="349769"/>
                </a:cubicBezTo>
                <a:cubicBezTo>
                  <a:pt x="67055" y="333220"/>
                  <a:pt x="53218" y="320740"/>
                  <a:pt x="43542" y="306226"/>
                </a:cubicBezTo>
                <a:cubicBezTo>
                  <a:pt x="38704" y="291712"/>
                  <a:pt x="33231" y="277394"/>
                  <a:pt x="29028" y="262683"/>
                </a:cubicBezTo>
                <a:cubicBezTo>
                  <a:pt x="-7421" y="135108"/>
                  <a:pt x="34800" y="265484"/>
                  <a:pt x="0" y="161083"/>
                </a:cubicBezTo>
                <a:cubicBezTo>
                  <a:pt x="4838" y="117540"/>
                  <a:pt x="-1757" y="71132"/>
                  <a:pt x="14514" y="30455"/>
                </a:cubicBezTo>
                <a:cubicBezTo>
                  <a:pt x="20196" y="16250"/>
                  <a:pt x="84667" y="-5831"/>
                  <a:pt x="101600" y="1426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6"/>
          <p:cNvSpPr/>
          <p:nvPr/>
        </p:nvSpPr>
        <p:spPr>
          <a:xfrm>
            <a:off x="857160" y="1125360"/>
            <a:ext cx="347760" cy="638280"/>
          </a:xfrm>
          <a:custGeom>
            <a:avLst/>
            <a:gdLst/>
            <a:ahLst/>
            <a:rect l="l" t="t" r="r" b="b"/>
            <a:pathLst>
              <a:path w="348342" h="638628">
                <a:moveTo>
                  <a:pt x="14514" y="0"/>
                </a:moveTo>
                <a:cubicBezTo>
                  <a:pt x="38704" y="19352"/>
                  <a:pt x="65180" y="36152"/>
                  <a:pt x="87085" y="58057"/>
                </a:cubicBezTo>
                <a:cubicBezTo>
                  <a:pt x="146173" y="117145"/>
                  <a:pt x="87645" y="102443"/>
                  <a:pt x="145142" y="188686"/>
                </a:cubicBezTo>
                <a:lnTo>
                  <a:pt x="174171" y="232228"/>
                </a:lnTo>
                <a:lnTo>
                  <a:pt x="203200" y="319314"/>
                </a:lnTo>
                <a:cubicBezTo>
                  <a:pt x="208038" y="333828"/>
                  <a:pt x="203200" y="358019"/>
                  <a:pt x="217714" y="362857"/>
                </a:cubicBezTo>
                <a:lnTo>
                  <a:pt x="261257" y="377371"/>
                </a:lnTo>
                <a:cubicBezTo>
                  <a:pt x="266095" y="391885"/>
                  <a:pt x="268929" y="407230"/>
                  <a:pt x="275771" y="420914"/>
                </a:cubicBezTo>
                <a:cubicBezTo>
                  <a:pt x="283572" y="436516"/>
                  <a:pt x="300210" y="447628"/>
                  <a:pt x="304800" y="464457"/>
                </a:cubicBezTo>
                <a:cubicBezTo>
                  <a:pt x="354835" y="647917"/>
                  <a:pt x="282760" y="525739"/>
                  <a:pt x="348342" y="624114"/>
                </a:cubicBezTo>
                <a:cubicBezTo>
                  <a:pt x="333828" y="628952"/>
                  <a:pt x="320099" y="638628"/>
                  <a:pt x="304800" y="638628"/>
                </a:cubicBezTo>
                <a:cubicBezTo>
                  <a:pt x="258062" y="638628"/>
                  <a:pt x="254518" y="614006"/>
                  <a:pt x="232228" y="580571"/>
                </a:cubicBezTo>
                <a:cubicBezTo>
                  <a:pt x="197684" y="476937"/>
                  <a:pt x="220173" y="518945"/>
                  <a:pt x="174171" y="449943"/>
                </a:cubicBezTo>
                <a:lnTo>
                  <a:pt x="130628" y="319314"/>
                </a:lnTo>
                <a:cubicBezTo>
                  <a:pt x="125790" y="304800"/>
                  <a:pt x="128844" y="284257"/>
                  <a:pt x="116114" y="275771"/>
                </a:cubicBezTo>
                <a:lnTo>
                  <a:pt x="72571" y="246743"/>
                </a:lnTo>
                <a:cubicBezTo>
                  <a:pt x="62895" y="217714"/>
                  <a:pt x="60515" y="185117"/>
                  <a:pt x="43542" y="159657"/>
                </a:cubicBezTo>
                <a:cubicBezTo>
                  <a:pt x="6028" y="103384"/>
                  <a:pt x="20030" y="132663"/>
                  <a:pt x="0" y="72571"/>
                </a:cubicBezTo>
                <a:cubicBezTo>
                  <a:pt x="4838" y="58057"/>
                  <a:pt x="-329" y="32739"/>
                  <a:pt x="14514" y="29028"/>
                </a:cubicBezTo>
                <a:cubicBezTo>
                  <a:pt x="31437" y="24797"/>
                  <a:pt x="43099" y="49082"/>
                  <a:pt x="58057" y="58057"/>
                </a:cubicBezTo>
                <a:cubicBezTo>
                  <a:pt x="67333" y="63623"/>
                  <a:pt x="77409" y="67733"/>
                  <a:pt x="87085" y="72571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7"/>
          <p:cNvSpPr/>
          <p:nvPr/>
        </p:nvSpPr>
        <p:spPr>
          <a:xfrm>
            <a:off x="1187280" y="1763640"/>
            <a:ext cx="820800" cy="558720"/>
          </a:xfrm>
          <a:custGeom>
            <a:avLst/>
            <a:gdLst/>
            <a:ahLst/>
            <a:rect l="l" t="t" r="r" b="b"/>
            <a:pathLst>
              <a:path w="820191" h="559475">
                <a:moveTo>
                  <a:pt x="262" y="4866"/>
                </a:moveTo>
                <a:cubicBezTo>
                  <a:pt x="-4576" y="-9648"/>
                  <a:pt x="58798" y="12243"/>
                  <a:pt x="87348" y="19380"/>
                </a:cubicBezTo>
                <a:cubicBezTo>
                  <a:pt x="117033" y="26801"/>
                  <a:pt x="174433" y="48408"/>
                  <a:pt x="174433" y="48408"/>
                </a:cubicBezTo>
                <a:cubicBezTo>
                  <a:pt x="188947" y="58084"/>
                  <a:pt x="205641" y="65102"/>
                  <a:pt x="217976" y="77437"/>
                </a:cubicBezTo>
                <a:cubicBezTo>
                  <a:pt x="230311" y="89772"/>
                  <a:pt x="233877" y="109493"/>
                  <a:pt x="247005" y="120980"/>
                </a:cubicBezTo>
                <a:cubicBezTo>
                  <a:pt x="273261" y="143954"/>
                  <a:pt x="334090" y="179037"/>
                  <a:pt x="334090" y="179037"/>
                </a:cubicBezTo>
                <a:cubicBezTo>
                  <a:pt x="401824" y="280637"/>
                  <a:pt x="363119" y="246770"/>
                  <a:pt x="435690" y="295151"/>
                </a:cubicBezTo>
                <a:cubicBezTo>
                  <a:pt x="440528" y="309665"/>
                  <a:pt x="439387" y="327876"/>
                  <a:pt x="450205" y="338694"/>
                </a:cubicBezTo>
                <a:cubicBezTo>
                  <a:pt x="506477" y="394966"/>
                  <a:pt x="553547" y="402170"/>
                  <a:pt x="624376" y="425780"/>
                </a:cubicBezTo>
                <a:lnTo>
                  <a:pt x="711462" y="454808"/>
                </a:lnTo>
                <a:lnTo>
                  <a:pt x="755005" y="469323"/>
                </a:lnTo>
                <a:cubicBezTo>
                  <a:pt x="774357" y="498351"/>
                  <a:pt x="842090" y="575760"/>
                  <a:pt x="813062" y="556408"/>
                </a:cubicBezTo>
                <a:lnTo>
                  <a:pt x="638890" y="440294"/>
                </a:lnTo>
                <a:lnTo>
                  <a:pt x="595348" y="411266"/>
                </a:lnTo>
                <a:cubicBezTo>
                  <a:pt x="580834" y="401590"/>
                  <a:pt x="568354" y="387753"/>
                  <a:pt x="551805" y="382237"/>
                </a:cubicBezTo>
                <a:cubicBezTo>
                  <a:pt x="484858" y="359922"/>
                  <a:pt x="523264" y="370724"/>
                  <a:pt x="435690" y="353208"/>
                </a:cubicBezTo>
                <a:cubicBezTo>
                  <a:pt x="421176" y="343532"/>
                  <a:pt x="403635" y="337308"/>
                  <a:pt x="392148" y="324180"/>
                </a:cubicBezTo>
                <a:cubicBezTo>
                  <a:pt x="369174" y="297924"/>
                  <a:pt x="363119" y="256447"/>
                  <a:pt x="334090" y="237094"/>
                </a:cubicBezTo>
                <a:lnTo>
                  <a:pt x="203462" y="150008"/>
                </a:lnTo>
                <a:cubicBezTo>
                  <a:pt x="188948" y="140332"/>
                  <a:pt x="176468" y="126496"/>
                  <a:pt x="159919" y="120980"/>
                </a:cubicBezTo>
                <a:lnTo>
                  <a:pt x="116376" y="106466"/>
                </a:lnTo>
                <a:cubicBezTo>
                  <a:pt x="25869" y="15959"/>
                  <a:pt x="5100" y="19380"/>
                  <a:pt x="262" y="4866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8"/>
          <p:cNvSpPr/>
          <p:nvPr/>
        </p:nvSpPr>
        <p:spPr>
          <a:xfrm>
            <a:off x="2290680" y="1754280"/>
            <a:ext cx="255600" cy="203040"/>
          </a:xfrm>
          <a:custGeom>
            <a:avLst/>
            <a:gdLst/>
            <a:ahLst/>
            <a:rect l="l" t="t" r="r" b="b"/>
            <a:pathLst>
              <a:path w="255712" h="203740">
                <a:moveTo>
                  <a:pt x="8969" y="29568"/>
                </a:moveTo>
                <a:cubicBezTo>
                  <a:pt x="35578" y="15054"/>
                  <a:pt x="115725" y="22611"/>
                  <a:pt x="168626" y="15054"/>
                </a:cubicBezTo>
                <a:cubicBezTo>
                  <a:pt x="249906" y="3443"/>
                  <a:pt x="174432" y="-12039"/>
                  <a:pt x="255712" y="15054"/>
                </a:cubicBezTo>
                <a:cubicBezTo>
                  <a:pt x="250874" y="58597"/>
                  <a:pt x="257468" y="105006"/>
                  <a:pt x="241197" y="145683"/>
                </a:cubicBezTo>
                <a:cubicBezTo>
                  <a:pt x="235515" y="159888"/>
                  <a:pt x="210385" y="151711"/>
                  <a:pt x="197655" y="160197"/>
                </a:cubicBezTo>
                <a:cubicBezTo>
                  <a:pt x="180576" y="171583"/>
                  <a:pt x="168626" y="189226"/>
                  <a:pt x="154112" y="203740"/>
                </a:cubicBezTo>
                <a:cubicBezTo>
                  <a:pt x="125083" y="198902"/>
                  <a:pt x="91135" y="206102"/>
                  <a:pt x="67026" y="189226"/>
                </a:cubicBezTo>
                <a:cubicBezTo>
                  <a:pt x="38445" y="169219"/>
                  <a:pt x="8969" y="102140"/>
                  <a:pt x="8969" y="102140"/>
                </a:cubicBezTo>
                <a:cubicBezTo>
                  <a:pt x="25013" y="54007"/>
                  <a:pt x="-17640" y="44082"/>
                  <a:pt x="8969" y="29568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0"/>
          <p:cNvSpPr/>
          <p:nvPr/>
        </p:nvSpPr>
        <p:spPr>
          <a:xfrm>
            <a:off x="2484360" y="1773360"/>
            <a:ext cx="584280" cy="360360"/>
          </a:xfrm>
          <a:custGeom>
            <a:avLst/>
            <a:gdLst/>
            <a:ahLst/>
            <a:rect l="l" t="t" r="r" b="b"/>
            <a:pathLst>
              <a:path w="654277" h="334331">
                <a:moveTo>
                  <a:pt x="0" y="101600"/>
                </a:moveTo>
                <a:cubicBezTo>
                  <a:pt x="29029" y="106438"/>
                  <a:pt x="58358" y="109730"/>
                  <a:pt x="87086" y="116114"/>
                </a:cubicBezTo>
                <a:cubicBezTo>
                  <a:pt x="102021" y="119433"/>
                  <a:pt x="115918" y="126426"/>
                  <a:pt x="130629" y="130629"/>
                </a:cubicBezTo>
                <a:cubicBezTo>
                  <a:pt x="149809" y="136109"/>
                  <a:pt x="169579" y="139411"/>
                  <a:pt x="188686" y="145143"/>
                </a:cubicBezTo>
                <a:cubicBezTo>
                  <a:pt x="217994" y="153935"/>
                  <a:pt x="246743" y="164495"/>
                  <a:pt x="275772" y="174171"/>
                </a:cubicBezTo>
                <a:cubicBezTo>
                  <a:pt x="290286" y="179009"/>
                  <a:pt x="304472" y="184975"/>
                  <a:pt x="319315" y="188686"/>
                </a:cubicBezTo>
                <a:cubicBezTo>
                  <a:pt x="392215" y="206911"/>
                  <a:pt x="358448" y="196892"/>
                  <a:pt x="420915" y="217714"/>
                </a:cubicBezTo>
                <a:cubicBezTo>
                  <a:pt x="449943" y="237066"/>
                  <a:pt x="474903" y="264738"/>
                  <a:pt x="508000" y="275771"/>
                </a:cubicBezTo>
                <a:lnTo>
                  <a:pt x="595086" y="304800"/>
                </a:lnTo>
                <a:cubicBezTo>
                  <a:pt x="609600" y="314476"/>
                  <a:pt x="621706" y="338060"/>
                  <a:pt x="638629" y="333829"/>
                </a:cubicBezTo>
                <a:cubicBezTo>
                  <a:pt x="669592" y="326088"/>
                  <a:pt x="646370" y="254484"/>
                  <a:pt x="638629" y="246743"/>
                </a:cubicBezTo>
                <a:cubicBezTo>
                  <a:pt x="613959" y="222073"/>
                  <a:pt x="580572" y="208038"/>
                  <a:pt x="551543" y="188686"/>
                </a:cubicBezTo>
                <a:lnTo>
                  <a:pt x="508000" y="159657"/>
                </a:lnTo>
                <a:lnTo>
                  <a:pt x="464458" y="130629"/>
                </a:lnTo>
                <a:cubicBezTo>
                  <a:pt x="449944" y="120953"/>
                  <a:pt x="437464" y="107116"/>
                  <a:pt x="420915" y="101600"/>
                </a:cubicBezTo>
                <a:lnTo>
                  <a:pt x="246743" y="43543"/>
                </a:lnTo>
                <a:lnTo>
                  <a:pt x="203200" y="29029"/>
                </a:lnTo>
                <a:cubicBezTo>
                  <a:pt x="188686" y="24191"/>
                  <a:pt x="174839" y="16412"/>
                  <a:pt x="159658" y="14514"/>
                </a:cubicBezTo>
                <a:lnTo>
                  <a:pt x="43543" y="0"/>
                </a:lnTo>
                <a:cubicBezTo>
                  <a:pt x="48381" y="14514"/>
                  <a:pt x="55057" y="28541"/>
                  <a:pt x="58058" y="43543"/>
                </a:cubicBezTo>
                <a:cubicBezTo>
                  <a:pt x="64767" y="77089"/>
                  <a:pt x="72572" y="145143"/>
                  <a:pt x="72572" y="145143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1"/>
          <p:cNvSpPr/>
          <p:nvPr/>
        </p:nvSpPr>
        <p:spPr>
          <a:xfrm>
            <a:off x="2916360" y="2043000"/>
            <a:ext cx="642960" cy="316080"/>
          </a:xfrm>
          <a:custGeom>
            <a:avLst/>
            <a:gdLst/>
            <a:ahLst/>
            <a:rect l="l" t="t" r="r" b="b"/>
            <a:pathLst>
              <a:path w="643131" h="316000">
                <a:moveTo>
                  <a:pt x="0" y="0"/>
                </a:moveTo>
                <a:cubicBezTo>
                  <a:pt x="47990" y="3691"/>
                  <a:pt x="211889" y="954"/>
                  <a:pt x="275772" y="43543"/>
                </a:cubicBezTo>
                <a:cubicBezTo>
                  <a:pt x="304800" y="62895"/>
                  <a:pt x="338188" y="76931"/>
                  <a:pt x="362857" y="101600"/>
                </a:cubicBezTo>
                <a:cubicBezTo>
                  <a:pt x="394959" y="133702"/>
                  <a:pt x="409526" y="153963"/>
                  <a:pt x="449943" y="174171"/>
                </a:cubicBezTo>
                <a:cubicBezTo>
                  <a:pt x="463627" y="181013"/>
                  <a:pt x="478972" y="183848"/>
                  <a:pt x="493486" y="188686"/>
                </a:cubicBezTo>
                <a:cubicBezTo>
                  <a:pt x="503162" y="203200"/>
                  <a:pt x="507722" y="222984"/>
                  <a:pt x="522515" y="232229"/>
                </a:cubicBezTo>
                <a:cubicBezTo>
                  <a:pt x="548463" y="248446"/>
                  <a:pt x="609600" y="261257"/>
                  <a:pt x="609600" y="261257"/>
                </a:cubicBezTo>
                <a:cubicBezTo>
                  <a:pt x="619276" y="275771"/>
                  <a:pt x="655734" y="301379"/>
                  <a:pt x="638629" y="304800"/>
                </a:cubicBezTo>
                <a:cubicBezTo>
                  <a:pt x="509696" y="330587"/>
                  <a:pt x="494180" y="310102"/>
                  <a:pt x="420915" y="261257"/>
                </a:cubicBezTo>
                <a:cubicBezTo>
                  <a:pt x="396283" y="187365"/>
                  <a:pt x="426193" y="238387"/>
                  <a:pt x="362857" y="203200"/>
                </a:cubicBezTo>
                <a:cubicBezTo>
                  <a:pt x="213134" y="120021"/>
                  <a:pt x="330756" y="163471"/>
                  <a:pt x="232229" y="130629"/>
                </a:cubicBezTo>
                <a:cubicBezTo>
                  <a:pt x="107440" y="47436"/>
                  <a:pt x="265327" y="147178"/>
                  <a:pt x="145143" y="87086"/>
                </a:cubicBezTo>
                <a:cubicBezTo>
                  <a:pt x="129541" y="79285"/>
                  <a:pt x="117933" y="64182"/>
                  <a:pt x="101600" y="58057"/>
                </a:cubicBezTo>
                <a:cubicBezTo>
                  <a:pt x="78501" y="49395"/>
                  <a:pt x="29029" y="43543"/>
                  <a:pt x="29029" y="43543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12"/>
          <p:cNvSpPr/>
          <p:nvPr/>
        </p:nvSpPr>
        <p:spPr>
          <a:xfrm>
            <a:off x="3260880" y="2239920"/>
            <a:ext cx="595080" cy="238320"/>
          </a:xfrm>
          <a:custGeom>
            <a:avLst/>
            <a:gdLst/>
            <a:ahLst/>
            <a:rect l="l" t="t" r="r" b="b"/>
            <a:pathLst>
              <a:path w="595086" h="237382">
                <a:moveTo>
                  <a:pt x="0" y="0"/>
                </a:moveTo>
                <a:cubicBezTo>
                  <a:pt x="17181" y="2148"/>
                  <a:pt x="194043" y="23565"/>
                  <a:pt x="217714" y="29028"/>
                </a:cubicBezTo>
                <a:cubicBezTo>
                  <a:pt x="247529" y="35908"/>
                  <a:pt x="275771" y="48381"/>
                  <a:pt x="304800" y="58057"/>
                </a:cubicBezTo>
                <a:lnTo>
                  <a:pt x="348343" y="72571"/>
                </a:lnTo>
                <a:cubicBezTo>
                  <a:pt x="473136" y="155768"/>
                  <a:pt x="315241" y="56019"/>
                  <a:pt x="435429" y="116114"/>
                </a:cubicBezTo>
                <a:cubicBezTo>
                  <a:pt x="547974" y="172387"/>
                  <a:pt x="413067" y="123176"/>
                  <a:pt x="522514" y="159657"/>
                </a:cubicBezTo>
                <a:cubicBezTo>
                  <a:pt x="532190" y="174171"/>
                  <a:pt x="539208" y="190865"/>
                  <a:pt x="551543" y="203200"/>
                </a:cubicBezTo>
                <a:cubicBezTo>
                  <a:pt x="563878" y="215535"/>
                  <a:pt x="595086" y="214784"/>
                  <a:pt x="595086" y="232228"/>
                </a:cubicBezTo>
                <a:cubicBezTo>
                  <a:pt x="595086" y="247527"/>
                  <a:pt x="565227" y="224556"/>
                  <a:pt x="551543" y="217714"/>
                </a:cubicBezTo>
                <a:cubicBezTo>
                  <a:pt x="535941" y="209913"/>
                  <a:pt x="523940" y="195771"/>
                  <a:pt x="508000" y="188686"/>
                </a:cubicBezTo>
                <a:cubicBezTo>
                  <a:pt x="480038" y="176259"/>
                  <a:pt x="449943" y="169333"/>
                  <a:pt x="420914" y="159657"/>
                </a:cubicBezTo>
                <a:lnTo>
                  <a:pt x="333829" y="130628"/>
                </a:lnTo>
                <a:cubicBezTo>
                  <a:pt x="319315" y="125790"/>
                  <a:pt x="305129" y="119825"/>
                  <a:pt x="290286" y="116114"/>
                </a:cubicBezTo>
                <a:cubicBezTo>
                  <a:pt x="270934" y="111276"/>
                  <a:pt x="251409" y="107080"/>
                  <a:pt x="232229" y="101600"/>
                </a:cubicBezTo>
                <a:cubicBezTo>
                  <a:pt x="217518" y="97397"/>
                  <a:pt x="203446" y="91112"/>
                  <a:pt x="188686" y="87086"/>
                </a:cubicBezTo>
                <a:cubicBezTo>
                  <a:pt x="150196" y="76589"/>
                  <a:pt x="110420" y="70673"/>
                  <a:pt x="72571" y="58057"/>
                </a:cubicBezTo>
                <a:lnTo>
                  <a:pt x="29029" y="43543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3"/>
          <p:cNvSpPr/>
          <p:nvPr/>
        </p:nvSpPr>
        <p:spPr>
          <a:xfrm>
            <a:off x="2970360" y="1700280"/>
            <a:ext cx="479160" cy="257040"/>
          </a:xfrm>
          <a:custGeom>
            <a:avLst/>
            <a:gdLst/>
            <a:ahLst/>
            <a:rect l="l" t="t" r="r" b="b"/>
            <a:pathLst>
              <a:path w="479548" h="257842">
                <a:moveTo>
                  <a:pt x="8883" y="255770"/>
                </a:moveTo>
                <a:cubicBezTo>
                  <a:pt x="28870" y="245777"/>
                  <a:pt x="96982" y="181741"/>
                  <a:pt x="128805" y="165829"/>
                </a:cubicBezTo>
                <a:cubicBezTo>
                  <a:pt x="154001" y="153231"/>
                  <a:pt x="209712" y="143055"/>
                  <a:pt x="233736" y="135848"/>
                </a:cubicBezTo>
                <a:cubicBezTo>
                  <a:pt x="264005" y="126767"/>
                  <a:pt x="293697" y="115861"/>
                  <a:pt x="323677" y="105868"/>
                </a:cubicBezTo>
                <a:lnTo>
                  <a:pt x="368647" y="90878"/>
                </a:lnTo>
                <a:cubicBezTo>
                  <a:pt x="378641" y="80884"/>
                  <a:pt x="385987" y="67218"/>
                  <a:pt x="398628" y="60897"/>
                </a:cubicBezTo>
                <a:cubicBezTo>
                  <a:pt x="417055" y="51684"/>
                  <a:pt x="442501" y="58777"/>
                  <a:pt x="458588" y="45907"/>
                </a:cubicBezTo>
                <a:cubicBezTo>
                  <a:pt x="470926" y="36036"/>
                  <a:pt x="489072" y="4036"/>
                  <a:pt x="473578" y="937"/>
                </a:cubicBezTo>
                <a:cubicBezTo>
                  <a:pt x="442590" y="-5261"/>
                  <a:pt x="413617" y="20924"/>
                  <a:pt x="383637" y="30917"/>
                </a:cubicBezTo>
                <a:lnTo>
                  <a:pt x="338667" y="45907"/>
                </a:lnTo>
                <a:cubicBezTo>
                  <a:pt x="328674" y="55901"/>
                  <a:pt x="321328" y="69568"/>
                  <a:pt x="308687" y="75888"/>
                </a:cubicBezTo>
                <a:cubicBezTo>
                  <a:pt x="236212" y="112126"/>
                  <a:pt x="216166" y="101121"/>
                  <a:pt x="143795" y="120858"/>
                </a:cubicBezTo>
                <a:cubicBezTo>
                  <a:pt x="113306" y="129173"/>
                  <a:pt x="53854" y="150838"/>
                  <a:pt x="53854" y="150838"/>
                </a:cubicBezTo>
                <a:cubicBezTo>
                  <a:pt x="30107" y="174585"/>
                  <a:pt x="8883" y="186873"/>
                  <a:pt x="8883" y="225789"/>
                </a:cubicBezTo>
                <a:cubicBezTo>
                  <a:pt x="8883" y="236962"/>
                  <a:pt x="-11104" y="265763"/>
                  <a:pt x="8883" y="255770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14"/>
          <p:cNvSpPr/>
          <p:nvPr/>
        </p:nvSpPr>
        <p:spPr>
          <a:xfrm>
            <a:off x="1735200" y="923760"/>
            <a:ext cx="272880" cy="401760"/>
          </a:xfrm>
          <a:custGeom>
            <a:avLst/>
            <a:gdLst/>
            <a:ahLst/>
            <a:rect l="l" t="t" r="r" b="b"/>
            <a:pathLst>
              <a:path w="273073" h="400784">
                <a:moveTo>
                  <a:pt x="269969" y="14990"/>
                </a:moveTo>
                <a:cubicBezTo>
                  <a:pt x="254979" y="29980"/>
                  <a:pt x="179491" y="61035"/>
                  <a:pt x="165038" y="89941"/>
                </a:cubicBezTo>
                <a:cubicBezTo>
                  <a:pt x="150905" y="118207"/>
                  <a:pt x="152588" y="153588"/>
                  <a:pt x="135058" y="179882"/>
                </a:cubicBezTo>
                <a:lnTo>
                  <a:pt x="75097" y="269823"/>
                </a:lnTo>
                <a:cubicBezTo>
                  <a:pt x="65104" y="284813"/>
                  <a:pt x="57856" y="302054"/>
                  <a:pt x="45117" y="314793"/>
                </a:cubicBezTo>
                <a:lnTo>
                  <a:pt x="15136" y="344774"/>
                </a:lnTo>
                <a:cubicBezTo>
                  <a:pt x="3943" y="378354"/>
                  <a:pt x="-28628" y="433911"/>
                  <a:pt x="60107" y="374754"/>
                </a:cubicBezTo>
                <a:cubicBezTo>
                  <a:pt x="75097" y="364760"/>
                  <a:pt x="78832" y="343851"/>
                  <a:pt x="90087" y="329783"/>
                </a:cubicBezTo>
                <a:cubicBezTo>
                  <a:pt x="98916" y="318747"/>
                  <a:pt x="110074" y="309796"/>
                  <a:pt x="120068" y="299803"/>
                </a:cubicBezTo>
                <a:cubicBezTo>
                  <a:pt x="125065" y="284813"/>
                  <a:pt x="126929" y="268382"/>
                  <a:pt x="135058" y="254833"/>
                </a:cubicBezTo>
                <a:cubicBezTo>
                  <a:pt x="142329" y="242714"/>
                  <a:pt x="156558" y="236158"/>
                  <a:pt x="165038" y="224852"/>
                </a:cubicBezTo>
                <a:cubicBezTo>
                  <a:pt x="186657" y="196026"/>
                  <a:pt x="205012" y="164891"/>
                  <a:pt x="224999" y="134911"/>
                </a:cubicBezTo>
                <a:lnTo>
                  <a:pt x="254979" y="89941"/>
                </a:lnTo>
                <a:cubicBezTo>
                  <a:pt x="259976" y="74951"/>
                  <a:pt x="269969" y="60771"/>
                  <a:pt x="269969" y="44970"/>
                </a:cubicBezTo>
                <a:cubicBezTo>
                  <a:pt x="269969" y="29169"/>
                  <a:pt x="270780" y="0"/>
                  <a:pt x="254979" y="0"/>
                </a:cubicBezTo>
                <a:cubicBezTo>
                  <a:pt x="239989" y="0"/>
                  <a:pt x="284959" y="0"/>
                  <a:pt x="269969" y="14990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5"/>
          <p:cNvSpPr/>
          <p:nvPr/>
        </p:nvSpPr>
        <p:spPr>
          <a:xfrm>
            <a:off x="2022480" y="912960"/>
            <a:ext cx="527040" cy="196560"/>
          </a:xfrm>
          <a:custGeom>
            <a:avLst/>
            <a:gdLst/>
            <a:ahLst/>
            <a:rect l="l" t="t" r="r" b="b"/>
            <a:pathLst>
              <a:path w="526419" h="197019">
                <a:moveTo>
                  <a:pt x="1121" y="17137"/>
                </a:moveTo>
                <a:cubicBezTo>
                  <a:pt x="-8873" y="24632"/>
                  <a:pt x="50545" y="38608"/>
                  <a:pt x="76072" y="47117"/>
                </a:cubicBezTo>
                <a:cubicBezTo>
                  <a:pt x="104884" y="56721"/>
                  <a:pt x="152134" y="62664"/>
                  <a:pt x="181003" y="77098"/>
                </a:cubicBezTo>
                <a:cubicBezTo>
                  <a:pt x="197117" y="85155"/>
                  <a:pt x="209511" y="99761"/>
                  <a:pt x="225974" y="107078"/>
                </a:cubicBezTo>
                <a:cubicBezTo>
                  <a:pt x="254852" y="119913"/>
                  <a:pt x="285935" y="127064"/>
                  <a:pt x="315915" y="137058"/>
                </a:cubicBezTo>
                <a:lnTo>
                  <a:pt x="450826" y="182029"/>
                </a:lnTo>
                <a:lnTo>
                  <a:pt x="495797" y="197019"/>
                </a:lnTo>
                <a:cubicBezTo>
                  <a:pt x="505790" y="182029"/>
                  <a:pt x="530726" y="169372"/>
                  <a:pt x="525777" y="152049"/>
                </a:cubicBezTo>
                <a:cubicBezTo>
                  <a:pt x="514414" y="112280"/>
                  <a:pt x="459219" y="83493"/>
                  <a:pt x="420846" y="77098"/>
                </a:cubicBezTo>
                <a:cubicBezTo>
                  <a:pt x="376214" y="69659"/>
                  <a:pt x="330905" y="67105"/>
                  <a:pt x="285934" y="62108"/>
                </a:cubicBezTo>
                <a:cubicBezTo>
                  <a:pt x="266728" y="57306"/>
                  <a:pt x="202504" y="42877"/>
                  <a:pt x="181003" y="32127"/>
                </a:cubicBezTo>
                <a:cubicBezTo>
                  <a:pt x="164889" y="24070"/>
                  <a:pt x="153868" y="4695"/>
                  <a:pt x="136033" y="2147"/>
                </a:cubicBezTo>
                <a:cubicBezTo>
                  <a:pt x="81621" y="-5626"/>
                  <a:pt x="11115" y="9642"/>
                  <a:pt x="1121" y="17137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16"/>
          <p:cNvSpPr/>
          <p:nvPr/>
        </p:nvSpPr>
        <p:spPr>
          <a:xfrm>
            <a:off x="2411280" y="509760"/>
            <a:ext cx="798480" cy="525240"/>
          </a:xfrm>
          <a:custGeom>
            <a:avLst/>
            <a:gdLst/>
            <a:ahLst/>
            <a:rect l="l" t="t" r="r" b="b"/>
            <a:pathLst>
              <a:path w="798868" h="524655">
                <a:moveTo>
                  <a:pt x="76627" y="524655"/>
                </a:moveTo>
                <a:cubicBezTo>
                  <a:pt x="51643" y="514662"/>
                  <a:pt x="17821" y="516202"/>
                  <a:pt x="1676" y="494675"/>
                </a:cubicBezTo>
                <a:cubicBezTo>
                  <a:pt x="-6804" y="483369"/>
                  <a:pt x="19016" y="471015"/>
                  <a:pt x="31657" y="464695"/>
                </a:cubicBezTo>
                <a:cubicBezTo>
                  <a:pt x="59923" y="450562"/>
                  <a:pt x="121598" y="434714"/>
                  <a:pt x="121598" y="434714"/>
                </a:cubicBezTo>
                <a:cubicBezTo>
                  <a:pt x="189397" y="333014"/>
                  <a:pt x="156079" y="370251"/>
                  <a:pt x="211539" y="314793"/>
                </a:cubicBezTo>
                <a:cubicBezTo>
                  <a:pt x="223329" y="279422"/>
                  <a:pt x="222216" y="260418"/>
                  <a:pt x="256509" y="239842"/>
                </a:cubicBezTo>
                <a:cubicBezTo>
                  <a:pt x="270058" y="231712"/>
                  <a:pt x="286490" y="229849"/>
                  <a:pt x="301480" y="224852"/>
                </a:cubicBezTo>
                <a:cubicBezTo>
                  <a:pt x="316470" y="214859"/>
                  <a:pt x="330336" y="202929"/>
                  <a:pt x="346450" y="194872"/>
                </a:cubicBezTo>
                <a:cubicBezTo>
                  <a:pt x="360583" y="187806"/>
                  <a:pt x="377872" y="188012"/>
                  <a:pt x="391421" y="179882"/>
                </a:cubicBezTo>
                <a:cubicBezTo>
                  <a:pt x="403540" y="172611"/>
                  <a:pt x="410365" y="158730"/>
                  <a:pt x="421401" y="149901"/>
                </a:cubicBezTo>
                <a:cubicBezTo>
                  <a:pt x="462912" y="116691"/>
                  <a:pt x="463844" y="120763"/>
                  <a:pt x="511342" y="104931"/>
                </a:cubicBezTo>
                <a:cubicBezTo>
                  <a:pt x="546856" y="69416"/>
                  <a:pt x="580410" y="31941"/>
                  <a:pt x="631263" y="14990"/>
                </a:cubicBezTo>
                <a:lnTo>
                  <a:pt x="676234" y="0"/>
                </a:lnTo>
                <a:cubicBezTo>
                  <a:pt x="691224" y="4997"/>
                  <a:pt x="705875" y="11158"/>
                  <a:pt x="721204" y="14990"/>
                </a:cubicBezTo>
                <a:cubicBezTo>
                  <a:pt x="745922" y="21169"/>
                  <a:pt x="780868" y="9597"/>
                  <a:pt x="796155" y="29980"/>
                </a:cubicBezTo>
                <a:cubicBezTo>
                  <a:pt x="806965" y="44392"/>
                  <a:pt x="783106" y="68793"/>
                  <a:pt x="766175" y="74950"/>
                </a:cubicBezTo>
                <a:cubicBezTo>
                  <a:pt x="723652" y="90413"/>
                  <a:pt x="676234" y="84944"/>
                  <a:pt x="631263" y="89941"/>
                </a:cubicBezTo>
                <a:cubicBezTo>
                  <a:pt x="601283" y="99934"/>
                  <a:pt x="567616" y="102391"/>
                  <a:pt x="541322" y="119921"/>
                </a:cubicBezTo>
                <a:cubicBezTo>
                  <a:pt x="526332" y="129914"/>
                  <a:pt x="510420" y="138647"/>
                  <a:pt x="496352" y="149901"/>
                </a:cubicBezTo>
                <a:cubicBezTo>
                  <a:pt x="449878" y="187081"/>
                  <a:pt x="482916" y="179105"/>
                  <a:pt x="421401" y="209862"/>
                </a:cubicBezTo>
                <a:cubicBezTo>
                  <a:pt x="407268" y="216928"/>
                  <a:pt x="391420" y="219855"/>
                  <a:pt x="376430" y="224852"/>
                </a:cubicBezTo>
                <a:cubicBezTo>
                  <a:pt x="220505" y="380781"/>
                  <a:pt x="432566" y="174595"/>
                  <a:pt x="286490" y="299803"/>
                </a:cubicBezTo>
                <a:cubicBezTo>
                  <a:pt x="170195" y="399485"/>
                  <a:pt x="269994" y="319048"/>
                  <a:pt x="196549" y="404734"/>
                </a:cubicBezTo>
                <a:cubicBezTo>
                  <a:pt x="178154" y="426195"/>
                  <a:pt x="164854" y="464695"/>
                  <a:pt x="136588" y="464695"/>
                </a:cubicBezTo>
                <a:lnTo>
                  <a:pt x="31657" y="464695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17"/>
          <p:cNvSpPr/>
          <p:nvPr/>
        </p:nvSpPr>
        <p:spPr>
          <a:xfrm>
            <a:off x="3162240" y="179280"/>
            <a:ext cx="320760" cy="330480"/>
          </a:xfrm>
          <a:custGeom>
            <a:avLst/>
            <a:gdLst/>
            <a:ahLst/>
            <a:rect l="l" t="t" r="r" b="b"/>
            <a:pathLst>
              <a:path w="320260" h="329784">
                <a:moveTo>
                  <a:pt x="0" y="329784"/>
                </a:moveTo>
                <a:cubicBezTo>
                  <a:pt x="114794" y="138459"/>
                  <a:pt x="-5974" y="326007"/>
                  <a:pt x="74950" y="224852"/>
                </a:cubicBezTo>
                <a:cubicBezTo>
                  <a:pt x="86204" y="210784"/>
                  <a:pt x="92192" y="192621"/>
                  <a:pt x="104931" y="179882"/>
                </a:cubicBezTo>
                <a:cubicBezTo>
                  <a:pt x="117670" y="167143"/>
                  <a:pt x="135833" y="161156"/>
                  <a:pt x="149901" y="149902"/>
                </a:cubicBezTo>
                <a:cubicBezTo>
                  <a:pt x="160937" y="141073"/>
                  <a:pt x="167241" y="126242"/>
                  <a:pt x="179882" y="119921"/>
                </a:cubicBezTo>
                <a:cubicBezTo>
                  <a:pt x="208148" y="105788"/>
                  <a:pt x="269823" y="89941"/>
                  <a:pt x="269823" y="89941"/>
                </a:cubicBezTo>
                <a:cubicBezTo>
                  <a:pt x="273519" y="78852"/>
                  <a:pt x="295420" y="0"/>
                  <a:pt x="314793" y="0"/>
                </a:cubicBezTo>
                <a:cubicBezTo>
                  <a:pt x="330594" y="0"/>
                  <a:pt x="307932" y="31421"/>
                  <a:pt x="299803" y="44970"/>
                </a:cubicBezTo>
                <a:cubicBezTo>
                  <a:pt x="292532" y="57089"/>
                  <a:pt x="280859" y="66122"/>
                  <a:pt x="269823" y="74951"/>
                </a:cubicBezTo>
                <a:cubicBezTo>
                  <a:pt x="255755" y="86206"/>
                  <a:pt x="238410" y="93067"/>
                  <a:pt x="224852" y="104931"/>
                </a:cubicBezTo>
                <a:cubicBezTo>
                  <a:pt x="84544" y="227700"/>
                  <a:pt x="206129" y="142397"/>
                  <a:pt x="104931" y="209862"/>
                </a:cubicBezTo>
                <a:cubicBezTo>
                  <a:pt x="94937" y="239842"/>
                  <a:pt x="104930" y="289809"/>
                  <a:pt x="74950" y="299803"/>
                </a:cubicBezTo>
                <a:lnTo>
                  <a:pt x="0" y="32978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18"/>
          <p:cNvSpPr/>
          <p:nvPr/>
        </p:nvSpPr>
        <p:spPr>
          <a:xfrm>
            <a:off x="3564000" y="1700280"/>
            <a:ext cx="438120" cy="195120"/>
          </a:xfrm>
          <a:custGeom>
            <a:avLst/>
            <a:gdLst/>
            <a:ahLst/>
            <a:rect l="l" t="t" r="r" b="b"/>
            <a:pathLst>
              <a:path w="438280" h="195350">
                <a:moveTo>
                  <a:pt x="14990" y="89941"/>
                </a:moveTo>
                <a:cubicBezTo>
                  <a:pt x="39974" y="74951"/>
                  <a:pt x="62301" y="54184"/>
                  <a:pt x="89941" y="44971"/>
                </a:cubicBezTo>
                <a:cubicBezTo>
                  <a:pt x="123460" y="33798"/>
                  <a:pt x="160110" y="36302"/>
                  <a:pt x="194872" y="29981"/>
                </a:cubicBezTo>
                <a:cubicBezTo>
                  <a:pt x="236276" y="22453"/>
                  <a:pt x="261277" y="12842"/>
                  <a:pt x="299803" y="0"/>
                </a:cubicBezTo>
                <a:cubicBezTo>
                  <a:pt x="334780" y="4997"/>
                  <a:pt x="371215" y="3817"/>
                  <a:pt x="404734" y="14990"/>
                </a:cubicBezTo>
                <a:cubicBezTo>
                  <a:pt x="418142" y="19459"/>
                  <a:pt x="448655" y="42647"/>
                  <a:pt x="434714" y="44971"/>
                </a:cubicBezTo>
                <a:cubicBezTo>
                  <a:pt x="394977" y="51594"/>
                  <a:pt x="354767" y="34978"/>
                  <a:pt x="314793" y="29981"/>
                </a:cubicBezTo>
                <a:lnTo>
                  <a:pt x="179882" y="74951"/>
                </a:lnTo>
                <a:lnTo>
                  <a:pt x="134911" y="89941"/>
                </a:lnTo>
                <a:lnTo>
                  <a:pt x="89941" y="104931"/>
                </a:lnTo>
                <a:cubicBezTo>
                  <a:pt x="79947" y="114925"/>
                  <a:pt x="66281" y="122271"/>
                  <a:pt x="59960" y="134912"/>
                </a:cubicBezTo>
                <a:cubicBezTo>
                  <a:pt x="25004" y="204823"/>
                  <a:pt x="76889" y="205512"/>
                  <a:pt x="0" y="179882"/>
                </a:cubicBezTo>
                <a:cubicBezTo>
                  <a:pt x="4997" y="154898"/>
                  <a:pt x="8811" y="129649"/>
                  <a:pt x="14990" y="104931"/>
                </a:cubicBezTo>
                <a:cubicBezTo>
                  <a:pt x="18822" y="89602"/>
                  <a:pt x="14651" y="63793"/>
                  <a:pt x="29980" y="59961"/>
                </a:cubicBezTo>
                <a:cubicBezTo>
                  <a:pt x="47458" y="55592"/>
                  <a:pt x="58837" y="81884"/>
                  <a:pt x="74951" y="89941"/>
                </a:cubicBezTo>
                <a:cubicBezTo>
                  <a:pt x="79420" y="92176"/>
                  <a:pt x="84944" y="89941"/>
                  <a:pt x="89941" y="89941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19"/>
          <p:cNvSpPr/>
          <p:nvPr/>
        </p:nvSpPr>
        <p:spPr>
          <a:xfrm>
            <a:off x="3822840" y="958680"/>
            <a:ext cx="358560" cy="741600"/>
          </a:xfrm>
          <a:custGeom>
            <a:avLst/>
            <a:gdLst/>
            <a:ahLst/>
            <a:rect l="l" t="t" r="r" b="b"/>
            <a:pathLst>
              <a:path w="359764" h="764498">
                <a:moveTo>
                  <a:pt x="0" y="764498"/>
                </a:moveTo>
                <a:cubicBezTo>
                  <a:pt x="4997" y="739514"/>
                  <a:pt x="8286" y="714128"/>
                  <a:pt x="14990" y="689547"/>
                </a:cubicBezTo>
                <a:cubicBezTo>
                  <a:pt x="23305" y="659058"/>
                  <a:pt x="34977" y="629586"/>
                  <a:pt x="44971" y="599606"/>
                </a:cubicBezTo>
                <a:lnTo>
                  <a:pt x="59961" y="554636"/>
                </a:lnTo>
                <a:cubicBezTo>
                  <a:pt x="64958" y="539646"/>
                  <a:pt x="71119" y="524994"/>
                  <a:pt x="74951" y="509665"/>
                </a:cubicBezTo>
                <a:cubicBezTo>
                  <a:pt x="79948" y="489678"/>
                  <a:pt x="84021" y="469438"/>
                  <a:pt x="89941" y="449705"/>
                </a:cubicBezTo>
                <a:cubicBezTo>
                  <a:pt x="99022" y="419436"/>
                  <a:pt x="97576" y="382110"/>
                  <a:pt x="119922" y="359764"/>
                </a:cubicBezTo>
                <a:lnTo>
                  <a:pt x="194872" y="284813"/>
                </a:lnTo>
                <a:cubicBezTo>
                  <a:pt x="199869" y="269823"/>
                  <a:pt x="202796" y="253975"/>
                  <a:pt x="209863" y="239842"/>
                </a:cubicBezTo>
                <a:cubicBezTo>
                  <a:pt x="217920" y="223728"/>
                  <a:pt x="232746" y="211431"/>
                  <a:pt x="239843" y="194872"/>
                </a:cubicBezTo>
                <a:cubicBezTo>
                  <a:pt x="249643" y="172005"/>
                  <a:pt x="255238" y="114250"/>
                  <a:pt x="269823" y="89941"/>
                </a:cubicBezTo>
                <a:cubicBezTo>
                  <a:pt x="292075" y="52854"/>
                  <a:pt x="314135" y="60619"/>
                  <a:pt x="344774" y="29980"/>
                </a:cubicBezTo>
                <a:cubicBezTo>
                  <a:pt x="352674" y="22080"/>
                  <a:pt x="354767" y="9993"/>
                  <a:pt x="359764" y="0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20"/>
          <p:cNvSpPr/>
          <p:nvPr/>
        </p:nvSpPr>
        <p:spPr>
          <a:xfrm>
            <a:off x="3780000" y="2205000"/>
            <a:ext cx="301320" cy="258840"/>
          </a:xfrm>
          <a:custGeom>
            <a:avLst/>
            <a:gdLst/>
            <a:ahLst/>
            <a:rect l="l" t="t" r="r" b="b"/>
            <a:pathLst>
              <a:path w="301799" h="259098">
                <a:moveTo>
                  <a:pt x="61948" y="137487"/>
                </a:moveTo>
                <a:cubicBezTo>
                  <a:pt x="41961" y="162471"/>
                  <a:pt x="13221" y="182480"/>
                  <a:pt x="1987" y="212438"/>
                </a:cubicBezTo>
                <a:cubicBezTo>
                  <a:pt x="-3561" y="227233"/>
                  <a:pt x="2844" y="250342"/>
                  <a:pt x="16977" y="257408"/>
                </a:cubicBezTo>
                <a:cubicBezTo>
                  <a:pt x="31110" y="264474"/>
                  <a:pt x="46958" y="247415"/>
                  <a:pt x="61948" y="242418"/>
                </a:cubicBezTo>
                <a:cubicBezTo>
                  <a:pt x="113341" y="165329"/>
                  <a:pt x="65519" y="224570"/>
                  <a:pt x="136898" y="167467"/>
                </a:cubicBezTo>
                <a:cubicBezTo>
                  <a:pt x="147934" y="158638"/>
                  <a:pt x="154760" y="144758"/>
                  <a:pt x="166879" y="137487"/>
                </a:cubicBezTo>
                <a:cubicBezTo>
                  <a:pt x="180428" y="129358"/>
                  <a:pt x="197716" y="129563"/>
                  <a:pt x="211849" y="122497"/>
                </a:cubicBezTo>
                <a:cubicBezTo>
                  <a:pt x="249672" y="103586"/>
                  <a:pt x="258913" y="90424"/>
                  <a:pt x="286800" y="62536"/>
                </a:cubicBezTo>
                <a:cubicBezTo>
                  <a:pt x="295366" y="36839"/>
                  <a:pt x="328201" y="-11700"/>
                  <a:pt x="256820" y="2576"/>
                </a:cubicBezTo>
                <a:cubicBezTo>
                  <a:pt x="236444" y="6651"/>
                  <a:pt x="206195" y="70058"/>
                  <a:pt x="196859" y="77527"/>
                </a:cubicBezTo>
                <a:cubicBezTo>
                  <a:pt x="184521" y="87398"/>
                  <a:pt x="166879" y="87520"/>
                  <a:pt x="151889" y="92517"/>
                </a:cubicBezTo>
                <a:cubicBezTo>
                  <a:pt x="141895" y="107507"/>
                  <a:pt x="134647" y="124748"/>
                  <a:pt x="121908" y="137487"/>
                </a:cubicBezTo>
                <a:cubicBezTo>
                  <a:pt x="81814" y="177580"/>
                  <a:pt x="76626" y="152944"/>
                  <a:pt x="46957" y="197448"/>
                </a:cubicBezTo>
                <a:cubicBezTo>
                  <a:pt x="44185" y="201605"/>
                  <a:pt x="46957" y="207441"/>
                  <a:pt x="46957" y="212438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组合 24"/>
          <p:cNvGrpSpPr/>
          <p:nvPr/>
        </p:nvGrpSpPr>
        <p:grpSpPr>
          <a:xfrm>
            <a:off x="2008080" y="355680"/>
            <a:ext cx="135000" cy="236520"/>
            <a:chOff x="2008080" y="355680"/>
            <a:chExt cx="135000" cy="236520"/>
          </a:xfrm>
        </p:grpSpPr>
        <p:sp>
          <p:nvSpPr>
            <p:cNvPr id="69" name="任意多边形 22"/>
            <p:cNvSpPr/>
            <p:nvPr/>
          </p:nvSpPr>
          <p:spPr>
            <a:xfrm>
              <a:off x="2008080" y="355680"/>
              <a:ext cx="135000" cy="236520"/>
            </a:xfrm>
            <a:custGeom>
              <a:avLst/>
              <a:gdLst/>
              <a:ahLst/>
              <a:rect l="l" t="t" r="r" b="b"/>
              <a:pathLst>
                <a:path w="239843" h="224852">
                  <a:moveTo>
                    <a:pt x="0" y="119921"/>
                  </a:moveTo>
                  <a:cubicBezTo>
                    <a:pt x="14990" y="94937"/>
                    <a:pt x="26010" y="67092"/>
                    <a:pt x="44971" y="44970"/>
                  </a:cubicBezTo>
                  <a:cubicBezTo>
                    <a:pt x="68218" y="17848"/>
                    <a:pt x="103433" y="10493"/>
                    <a:pt x="134912" y="0"/>
                  </a:cubicBezTo>
                  <a:cubicBezTo>
                    <a:pt x="178022" y="10778"/>
                    <a:pt x="201269" y="5664"/>
                    <a:pt x="224853" y="44970"/>
                  </a:cubicBezTo>
                  <a:cubicBezTo>
                    <a:pt x="232983" y="58519"/>
                    <a:pt x="234846" y="74951"/>
                    <a:pt x="239843" y="89941"/>
                  </a:cubicBezTo>
                  <a:cubicBezTo>
                    <a:pt x="234846" y="119921"/>
                    <a:pt x="235525" y="151423"/>
                    <a:pt x="224853" y="179882"/>
                  </a:cubicBezTo>
                  <a:cubicBezTo>
                    <a:pt x="219891" y="193115"/>
                    <a:pt x="206991" y="202591"/>
                    <a:pt x="194872" y="209862"/>
                  </a:cubicBezTo>
                  <a:cubicBezTo>
                    <a:pt x="181323" y="217991"/>
                    <a:pt x="149902" y="224852"/>
                    <a:pt x="149902" y="224852"/>
                  </a:cubicBezTo>
                </a:path>
              </a:pathLst>
            </a:custGeom>
            <a:noFill/>
            <a:ln w="255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任意多边形 23"/>
            <p:cNvSpPr/>
            <p:nvPr/>
          </p:nvSpPr>
          <p:spPr>
            <a:xfrm>
              <a:off x="2008080" y="447840"/>
              <a:ext cx="76320" cy="93960"/>
            </a:xfrm>
            <a:custGeom>
              <a:avLst/>
              <a:gdLst/>
              <a:ahLst/>
              <a:rect l="l" t="t" r="r" b="b"/>
              <a:pathLst>
                <a:path w="76456" h="93708">
                  <a:moveTo>
                    <a:pt x="14990" y="391"/>
                  </a:moveTo>
                  <a:cubicBezTo>
                    <a:pt x="14990" y="5388"/>
                    <a:pt x="53479" y="49815"/>
                    <a:pt x="44970" y="75342"/>
                  </a:cubicBezTo>
                  <a:cubicBezTo>
                    <a:pt x="39273" y="92433"/>
                    <a:pt x="0" y="45362"/>
                    <a:pt x="0" y="45362"/>
                  </a:cubicBezTo>
                  <a:cubicBezTo>
                    <a:pt x="4997" y="60352"/>
                    <a:pt x="319" y="84464"/>
                    <a:pt x="14990" y="90332"/>
                  </a:cubicBezTo>
                  <a:cubicBezTo>
                    <a:pt x="34119" y="97983"/>
                    <a:pt x="63523" y="92484"/>
                    <a:pt x="74951" y="75342"/>
                  </a:cubicBezTo>
                  <a:cubicBezTo>
                    <a:pt x="82791" y="63583"/>
                    <a:pt x="58092" y="50611"/>
                    <a:pt x="44970" y="45362"/>
                  </a:cubicBezTo>
                  <a:cubicBezTo>
                    <a:pt x="31052" y="39795"/>
                    <a:pt x="14990" y="-4606"/>
                    <a:pt x="14990" y="391"/>
                  </a:cubicBez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任意多边形 25"/>
          <p:cNvSpPr/>
          <p:nvPr/>
        </p:nvSpPr>
        <p:spPr>
          <a:xfrm>
            <a:off x="1979640" y="398520"/>
            <a:ext cx="419040" cy="509400"/>
          </a:xfrm>
          <a:custGeom>
            <a:avLst/>
            <a:gdLst/>
            <a:ahLst/>
            <a:rect l="l" t="t" r="r" b="b"/>
            <a:pathLst>
              <a:path w="419725" h="509666">
                <a:moveTo>
                  <a:pt x="0" y="509666"/>
                </a:moveTo>
                <a:cubicBezTo>
                  <a:pt x="9994" y="484682"/>
                  <a:pt x="17947" y="458783"/>
                  <a:pt x="29981" y="434715"/>
                </a:cubicBezTo>
                <a:cubicBezTo>
                  <a:pt x="38038" y="418601"/>
                  <a:pt x="52644" y="406207"/>
                  <a:pt x="59961" y="389744"/>
                </a:cubicBezTo>
                <a:cubicBezTo>
                  <a:pt x="72796" y="360866"/>
                  <a:pt x="79947" y="329783"/>
                  <a:pt x="89941" y="299803"/>
                </a:cubicBezTo>
                <a:cubicBezTo>
                  <a:pt x="94938" y="284813"/>
                  <a:pt x="93759" y="266006"/>
                  <a:pt x="104932" y="254833"/>
                </a:cubicBezTo>
                <a:lnTo>
                  <a:pt x="179882" y="179882"/>
                </a:lnTo>
                <a:cubicBezTo>
                  <a:pt x="196138" y="131118"/>
                  <a:pt x="186780" y="128515"/>
                  <a:pt x="239843" y="104931"/>
                </a:cubicBezTo>
                <a:cubicBezTo>
                  <a:pt x="268721" y="92096"/>
                  <a:pt x="329784" y="74951"/>
                  <a:pt x="329784" y="74951"/>
                </a:cubicBezTo>
                <a:cubicBezTo>
                  <a:pt x="339777" y="64957"/>
                  <a:pt x="347645" y="52241"/>
                  <a:pt x="359764" y="44970"/>
                </a:cubicBezTo>
                <a:cubicBezTo>
                  <a:pt x="425920" y="5276"/>
                  <a:pt x="390184" y="59083"/>
                  <a:pt x="419725" y="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26"/>
          <p:cNvSpPr/>
          <p:nvPr/>
        </p:nvSpPr>
        <p:spPr>
          <a:xfrm>
            <a:off x="2189160" y="344520"/>
            <a:ext cx="209520" cy="128520"/>
          </a:xfrm>
          <a:custGeom>
            <a:avLst/>
            <a:gdLst/>
            <a:ahLst/>
            <a:rect l="l" t="t" r="r" b="b"/>
            <a:pathLst>
              <a:path w="194872" h="150771">
                <a:moveTo>
                  <a:pt x="0" y="15322"/>
                </a:moveTo>
                <a:cubicBezTo>
                  <a:pt x="69520" y="1418"/>
                  <a:pt x="80382" y="-10748"/>
                  <a:pt x="149902" y="15322"/>
                </a:cubicBezTo>
                <a:cubicBezTo>
                  <a:pt x="166771" y="21648"/>
                  <a:pt x="179882" y="35309"/>
                  <a:pt x="194872" y="45302"/>
                </a:cubicBezTo>
                <a:cubicBezTo>
                  <a:pt x="189875" y="65289"/>
                  <a:pt x="191310" y="88121"/>
                  <a:pt x="179882" y="105263"/>
                </a:cubicBezTo>
                <a:cubicBezTo>
                  <a:pt x="165227" y="127245"/>
                  <a:pt x="113883" y="144247"/>
                  <a:pt x="89941" y="150233"/>
                </a:cubicBezTo>
                <a:cubicBezTo>
                  <a:pt x="85094" y="151445"/>
                  <a:pt x="79948" y="150233"/>
                  <a:pt x="74951" y="150233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27"/>
          <p:cNvSpPr/>
          <p:nvPr/>
        </p:nvSpPr>
        <p:spPr>
          <a:xfrm>
            <a:off x="1909800" y="441360"/>
            <a:ext cx="141120" cy="190440"/>
          </a:xfrm>
          <a:custGeom>
            <a:avLst/>
            <a:gdLst/>
            <a:ahLst/>
            <a:rect l="l" t="t" r="r" b="b"/>
            <a:pathLst>
              <a:path w="209862" h="218707">
                <a:moveTo>
                  <a:pt x="194872" y="67550"/>
                </a:moveTo>
                <a:cubicBezTo>
                  <a:pt x="126315" y="12705"/>
                  <a:pt x="114065" y="-26959"/>
                  <a:pt x="14990" y="22579"/>
                </a:cubicBezTo>
                <a:cubicBezTo>
                  <a:pt x="857" y="29646"/>
                  <a:pt x="4997" y="52560"/>
                  <a:pt x="0" y="67550"/>
                </a:cubicBezTo>
                <a:cubicBezTo>
                  <a:pt x="4997" y="92533"/>
                  <a:pt x="-652" y="122389"/>
                  <a:pt x="14990" y="142500"/>
                </a:cubicBezTo>
                <a:cubicBezTo>
                  <a:pt x="32156" y="164570"/>
                  <a:pt x="108427" y="211526"/>
                  <a:pt x="149901" y="217451"/>
                </a:cubicBezTo>
                <a:cubicBezTo>
                  <a:pt x="169687" y="220278"/>
                  <a:pt x="189875" y="217451"/>
                  <a:pt x="209862" y="21745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30"/>
          <p:cNvSpPr/>
          <p:nvPr/>
        </p:nvSpPr>
        <p:spPr>
          <a:xfrm>
            <a:off x="1989000" y="493560"/>
            <a:ext cx="114480" cy="6048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任意多边形 31"/>
          <p:cNvSpPr/>
          <p:nvPr/>
        </p:nvSpPr>
        <p:spPr>
          <a:xfrm>
            <a:off x="1814400" y="374760"/>
            <a:ext cx="104760" cy="29880"/>
          </a:xfrm>
          <a:custGeom>
            <a:avLst/>
            <a:gdLst/>
            <a:ahLst/>
            <a:rect l="l" t="t" r="r" b="b"/>
            <a:pathLst>
              <a:path w="104931" h="30100">
                <a:moveTo>
                  <a:pt x="104931" y="30100"/>
                </a:moveTo>
                <a:cubicBezTo>
                  <a:pt x="20701" y="-3591"/>
                  <a:pt x="56888" y="120"/>
                  <a:pt x="0" y="12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任意多边形 33"/>
          <p:cNvSpPr/>
          <p:nvPr/>
        </p:nvSpPr>
        <p:spPr>
          <a:xfrm>
            <a:off x="1949400" y="404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任意多边形 34"/>
          <p:cNvSpPr/>
          <p:nvPr/>
        </p:nvSpPr>
        <p:spPr>
          <a:xfrm>
            <a:off x="1814400" y="298440"/>
            <a:ext cx="119160" cy="92160"/>
          </a:xfrm>
          <a:custGeom>
            <a:avLst/>
            <a:gdLst/>
            <a:ahLst/>
            <a:rect l="l" t="t" r="r" b="b"/>
            <a:pathLst>
              <a:path w="119921" h="91511">
                <a:moveTo>
                  <a:pt x="119921" y="91511"/>
                </a:moveTo>
                <a:cubicBezTo>
                  <a:pt x="94937" y="76521"/>
                  <a:pt x="67091" y="65502"/>
                  <a:pt x="44970" y="46541"/>
                </a:cubicBezTo>
                <a:cubicBezTo>
                  <a:pt x="31291" y="34816"/>
                  <a:pt x="27729" y="14309"/>
                  <a:pt x="14990" y="1570"/>
                </a:cubicBezTo>
                <a:cubicBezTo>
                  <a:pt x="11457" y="-1963"/>
                  <a:pt x="4997" y="1570"/>
                  <a:pt x="0" y="157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任意多边形 35"/>
          <p:cNvSpPr/>
          <p:nvPr/>
        </p:nvSpPr>
        <p:spPr>
          <a:xfrm>
            <a:off x="1889280" y="270000"/>
            <a:ext cx="60120" cy="120600"/>
          </a:xfrm>
          <a:custGeom>
            <a:avLst/>
            <a:gdLst/>
            <a:ahLst/>
            <a:rect l="l" t="t" r="r" b="b"/>
            <a:pathLst>
              <a:path w="59960" h="104931">
                <a:moveTo>
                  <a:pt x="0" y="0"/>
                </a:moveTo>
                <a:cubicBezTo>
                  <a:pt x="50718" y="84532"/>
                  <a:pt x="31940" y="48891"/>
                  <a:pt x="59960" y="10493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任意多边形 36"/>
          <p:cNvSpPr/>
          <p:nvPr/>
        </p:nvSpPr>
        <p:spPr>
          <a:xfrm>
            <a:off x="1979640" y="254160"/>
            <a:ext cx="15840" cy="150480"/>
          </a:xfrm>
          <a:custGeom>
            <a:avLst/>
            <a:gdLst/>
            <a:ahLst/>
            <a:rect l="l" t="t" r="r" b="b"/>
            <a:pathLst>
              <a:path w="14992" h="149901">
                <a:moveTo>
                  <a:pt x="0" y="0"/>
                </a:moveTo>
                <a:cubicBezTo>
                  <a:pt x="15542" y="139877"/>
                  <a:pt x="14990" y="89664"/>
                  <a:pt x="14990" y="14990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任意多边形 37"/>
          <p:cNvSpPr/>
          <p:nvPr/>
        </p:nvSpPr>
        <p:spPr>
          <a:xfrm>
            <a:off x="1976400" y="270000"/>
            <a:ext cx="74520" cy="134640"/>
          </a:xfrm>
          <a:custGeom>
            <a:avLst/>
            <a:gdLst/>
            <a:ahLst/>
            <a:rect l="l" t="t" r="r" b="b"/>
            <a:pathLst>
              <a:path w="74951" h="134912">
                <a:moveTo>
                  <a:pt x="0" y="134912"/>
                </a:moveTo>
                <a:cubicBezTo>
                  <a:pt x="4997" y="109928"/>
                  <a:pt x="2617" y="82233"/>
                  <a:pt x="14990" y="59961"/>
                </a:cubicBezTo>
                <a:cubicBezTo>
                  <a:pt x="28717" y="35252"/>
                  <a:pt x="74951" y="0"/>
                  <a:pt x="74951" y="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任意多边形 38"/>
          <p:cNvSpPr/>
          <p:nvPr/>
        </p:nvSpPr>
        <p:spPr>
          <a:xfrm>
            <a:off x="2050920" y="297000"/>
            <a:ext cx="135000" cy="107640"/>
          </a:xfrm>
          <a:custGeom>
            <a:avLst/>
            <a:gdLst/>
            <a:ahLst/>
            <a:rect l="l" t="t" r="r" b="b"/>
            <a:pathLst>
              <a:path w="134911" h="107405">
                <a:moveTo>
                  <a:pt x="0" y="107405"/>
                </a:moveTo>
                <a:cubicBezTo>
                  <a:pt x="19987" y="82421"/>
                  <a:pt x="39138" y="56746"/>
                  <a:pt x="59960" y="32454"/>
                </a:cubicBezTo>
                <a:cubicBezTo>
                  <a:pt x="69158" y="21723"/>
                  <a:pt x="76819" y="7723"/>
                  <a:pt x="89941" y="2474"/>
                </a:cubicBezTo>
                <a:cubicBezTo>
                  <a:pt x="103859" y="-3093"/>
                  <a:pt x="119921" y="2474"/>
                  <a:pt x="134911" y="2474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40"/>
          <p:cNvSpPr/>
          <p:nvPr/>
        </p:nvSpPr>
        <p:spPr>
          <a:xfrm>
            <a:off x="1873080" y="809640"/>
            <a:ext cx="212760" cy="195120"/>
          </a:xfrm>
          <a:custGeom>
            <a:avLst/>
            <a:gdLst/>
            <a:ahLst/>
            <a:rect l="l" t="t" r="r" b="b"/>
            <a:pathLst>
              <a:path w="211769" h="194872">
                <a:moveTo>
                  <a:pt x="74951" y="0"/>
                </a:moveTo>
                <a:cubicBezTo>
                  <a:pt x="49967" y="4997"/>
                  <a:pt x="18016" y="-3026"/>
                  <a:pt x="0" y="14990"/>
                </a:cubicBezTo>
                <a:lnTo>
                  <a:pt x="59961" y="74951"/>
                </a:lnTo>
                <a:cubicBezTo>
                  <a:pt x="64958" y="89941"/>
                  <a:pt x="66821" y="106372"/>
                  <a:pt x="74951" y="119921"/>
                </a:cubicBezTo>
                <a:cubicBezTo>
                  <a:pt x="82222" y="132040"/>
                  <a:pt x="93896" y="141072"/>
                  <a:pt x="104932" y="149901"/>
                </a:cubicBezTo>
                <a:cubicBezTo>
                  <a:pt x="146447" y="183113"/>
                  <a:pt x="147372" y="179039"/>
                  <a:pt x="194873" y="194872"/>
                </a:cubicBezTo>
                <a:cubicBezTo>
                  <a:pt x="207037" y="158380"/>
                  <a:pt x="225874" y="128692"/>
                  <a:pt x="194873" y="89941"/>
                </a:cubicBezTo>
                <a:cubicBezTo>
                  <a:pt x="145162" y="27803"/>
                  <a:pt x="149902" y="105162"/>
                  <a:pt x="149902" y="5996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1"/>
          <p:cNvSpPr/>
          <p:nvPr/>
        </p:nvSpPr>
        <p:spPr>
          <a:xfrm>
            <a:off x="2124000" y="509760"/>
            <a:ext cx="136440" cy="158400"/>
          </a:xfrm>
          <a:custGeom>
            <a:avLst/>
            <a:gdLst/>
            <a:ahLst/>
            <a:rect l="l" t="t" r="r" b="b"/>
            <a:pathLst>
              <a:path w="285656" h="149902">
                <a:moveTo>
                  <a:pt x="59961" y="0"/>
                </a:moveTo>
                <a:lnTo>
                  <a:pt x="134912" y="14990"/>
                </a:lnTo>
                <a:cubicBezTo>
                  <a:pt x="164816" y="20427"/>
                  <a:pt x="195183" y="23387"/>
                  <a:pt x="224853" y="29981"/>
                </a:cubicBezTo>
                <a:cubicBezTo>
                  <a:pt x="240278" y="33409"/>
                  <a:pt x="254833" y="39974"/>
                  <a:pt x="269823" y="44971"/>
                </a:cubicBezTo>
                <a:cubicBezTo>
                  <a:pt x="279816" y="74951"/>
                  <a:pt x="299803" y="104931"/>
                  <a:pt x="269823" y="134912"/>
                </a:cubicBezTo>
                <a:cubicBezTo>
                  <a:pt x="258650" y="146085"/>
                  <a:pt x="239843" y="144905"/>
                  <a:pt x="224853" y="149902"/>
                </a:cubicBezTo>
                <a:cubicBezTo>
                  <a:pt x="10006" y="134556"/>
                  <a:pt x="85123" y="134912"/>
                  <a:pt x="0" y="134912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2"/>
          <p:cNvSpPr/>
          <p:nvPr/>
        </p:nvSpPr>
        <p:spPr>
          <a:xfrm>
            <a:off x="2141640" y="549360"/>
            <a:ext cx="114120" cy="601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43"/>
          <p:cNvSpPr/>
          <p:nvPr/>
        </p:nvSpPr>
        <p:spPr>
          <a:xfrm>
            <a:off x="1828800" y="1244520"/>
            <a:ext cx="198360" cy="523800"/>
          </a:xfrm>
          <a:custGeom>
            <a:avLst/>
            <a:gdLst/>
            <a:ahLst/>
            <a:rect l="l" t="t" r="r" b="b"/>
            <a:pathLst>
              <a:path w="198860" h="524655">
                <a:moveTo>
                  <a:pt x="0" y="0"/>
                </a:moveTo>
                <a:cubicBezTo>
                  <a:pt x="9993" y="24983"/>
                  <a:pt x="17946" y="50883"/>
                  <a:pt x="29980" y="74950"/>
                </a:cubicBezTo>
                <a:cubicBezTo>
                  <a:pt x="38037" y="91064"/>
                  <a:pt x="52644" y="103458"/>
                  <a:pt x="59961" y="119921"/>
                </a:cubicBezTo>
                <a:cubicBezTo>
                  <a:pt x="72796" y="148799"/>
                  <a:pt x="79948" y="179882"/>
                  <a:pt x="89941" y="209862"/>
                </a:cubicBezTo>
                <a:lnTo>
                  <a:pt x="104931" y="254832"/>
                </a:lnTo>
                <a:cubicBezTo>
                  <a:pt x="109928" y="304799"/>
                  <a:pt x="110667" y="355378"/>
                  <a:pt x="119921" y="404734"/>
                </a:cubicBezTo>
                <a:cubicBezTo>
                  <a:pt x="125745" y="435795"/>
                  <a:pt x="123607" y="477145"/>
                  <a:pt x="149902" y="494675"/>
                </a:cubicBezTo>
                <a:cubicBezTo>
                  <a:pt x="164892" y="504668"/>
                  <a:pt x="212888" y="524655"/>
                  <a:pt x="194872" y="524655"/>
                </a:cubicBezTo>
                <a:cubicBezTo>
                  <a:pt x="163270" y="524655"/>
                  <a:pt x="104931" y="494675"/>
                  <a:pt x="104931" y="494675"/>
                </a:cubicBezTo>
                <a:cubicBezTo>
                  <a:pt x="94938" y="479685"/>
                  <a:pt x="78484" y="467371"/>
                  <a:pt x="74951" y="449705"/>
                </a:cubicBezTo>
                <a:cubicBezTo>
                  <a:pt x="63151" y="390705"/>
                  <a:pt x="67913" y="329464"/>
                  <a:pt x="59961" y="269823"/>
                </a:cubicBezTo>
                <a:cubicBezTo>
                  <a:pt x="57873" y="254160"/>
                  <a:pt x="49967" y="239842"/>
                  <a:pt x="44970" y="224852"/>
                </a:cubicBezTo>
                <a:cubicBezTo>
                  <a:pt x="39973" y="194872"/>
                  <a:pt x="36573" y="164581"/>
                  <a:pt x="29980" y="134911"/>
                </a:cubicBezTo>
                <a:cubicBezTo>
                  <a:pt x="11830" y="53234"/>
                  <a:pt x="14990" y="122962"/>
                  <a:pt x="14990" y="59960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4"/>
          <p:cNvSpPr/>
          <p:nvPr/>
        </p:nvSpPr>
        <p:spPr>
          <a:xfrm>
            <a:off x="1063800" y="1528920"/>
            <a:ext cx="360360" cy="60120"/>
          </a:xfrm>
          <a:custGeom>
            <a:avLst/>
            <a:gdLst/>
            <a:ahLst/>
            <a:rect l="l" t="t" r="r" b="b"/>
            <a:pathLst>
              <a:path w="359764" h="60005">
                <a:moveTo>
                  <a:pt x="0" y="0"/>
                </a:moveTo>
                <a:cubicBezTo>
                  <a:pt x="24983" y="9993"/>
                  <a:pt x="49755" y="20532"/>
                  <a:pt x="74950" y="29980"/>
                </a:cubicBezTo>
                <a:cubicBezTo>
                  <a:pt x="89745" y="35528"/>
                  <a:pt x="104258" y="42882"/>
                  <a:pt x="119921" y="44970"/>
                </a:cubicBezTo>
                <a:cubicBezTo>
                  <a:pt x="244796" y="61620"/>
                  <a:pt x="264523" y="59960"/>
                  <a:pt x="359764" y="5996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任意多边形 45"/>
          <p:cNvSpPr/>
          <p:nvPr/>
        </p:nvSpPr>
        <p:spPr>
          <a:xfrm>
            <a:off x="1243080" y="1506600"/>
            <a:ext cx="46080" cy="82440"/>
          </a:xfrm>
          <a:custGeom>
            <a:avLst/>
            <a:gdLst/>
            <a:ahLst/>
            <a:rect l="l" t="t" r="r" b="b"/>
            <a:pathLst>
              <a:path w="75480" h="104931">
                <a:moveTo>
                  <a:pt x="75480" y="104931"/>
                </a:moveTo>
                <a:cubicBezTo>
                  <a:pt x="-11176" y="35606"/>
                  <a:pt x="529" y="76965"/>
                  <a:pt x="529" y="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任意多边形 46"/>
          <p:cNvSpPr/>
          <p:nvPr/>
        </p:nvSpPr>
        <p:spPr>
          <a:xfrm>
            <a:off x="1319040" y="1422360"/>
            <a:ext cx="150840" cy="92160"/>
          </a:xfrm>
          <a:custGeom>
            <a:avLst/>
            <a:gdLst/>
            <a:ahLst/>
            <a:rect l="l" t="t" r="r" b="b"/>
            <a:pathLst>
              <a:path w="150162" h="90951">
                <a:moveTo>
                  <a:pt x="0" y="45980"/>
                </a:moveTo>
                <a:cubicBezTo>
                  <a:pt x="24984" y="30990"/>
                  <a:pt x="46685" y="8076"/>
                  <a:pt x="74951" y="1010"/>
                </a:cubicBezTo>
                <a:cubicBezTo>
                  <a:pt x="107463" y="-7118"/>
                  <a:pt x="144849" y="35706"/>
                  <a:pt x="149902" y="60970"/>
                </a:cubicBezTo>
                <a:cubicBezTo>
                  <a:pt x="152093" y="71926"/>
                  <a:pt x="139909" y="80957"/>
                  <a:pt x="134912" y="9095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任意多边形 47"/>
          <p:cNvSpPr/>
          <p:nvPr/>
        </p:nvSpPr>
        <p:spPr>
          <a:xfrm>
            <a:off x="1349280" y="1573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任意多边形 48"/>
          <p:cNvSpPr/>
          <p:nvPr/>
        </p:nvSpPr>
        <p:spPr>
          <a:xfrm>
            <a:off x="1314360" y="1528920"/>
            <a:ext cx="79560" cy="53640"/>
          </a:xfrm>
          <a:custGeom>
            <a:avLst/>
            <a:gdLst/>
            <a:ahLst/>
            <a:rect l="l" t="t" r="r" b="b"/>
            <a:pathLst>
              <a:path w="149901" h="194872">
                <a:moveTo>
                  <a:pt x="0" y="194872"/>
                </a:moveTo>
                <a:cubicBezTo>
                  <a:pt x="12215" y="174513"/>
                  <a:pt x="92242" y="38439"/>
                  <a:pt x="104931" y="29980"/>
                </a:cubicBezTo>
                <a:lnTo>
                  <a:pt x="149901" y="0"/>
                </a:ln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任意多边形 49"/>
          <p:cNvSpPr/>
          <p:nvPr/>
        </p:nvSpPr>
        <p:spPr>
          <a:xfrm>
            <a:off x="1289160" y="1663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任意多边形 50"/>
          <p:cNvSpPr/>
          <p:nvPr/>
        </p:nvSpPr>
        <p:spPr>
          <a:xfrm>
            <a:off x="1289160" y="1633680"/>
            <a:ext cx="120600" cy="60120"/>
          </a:xfrm>
          <a:custGeom>
            <a:avLst/>
            <a:gdLst/>
            <a:ahLst/>
            <a:rect l="l" t="t" r="r" b="b"/>
            <a:pathLst>
              <a:path w="119921" h="59961">
                <a:moveTo>
                  <a:pt x="0" y="0"/>
                </a:moveTo>
                <a:cubicBezTo>
                  <a:pt x="24984" y="9993"/>
                  <a:pt x="50884" y="17946"/>
                  <a:pt x="74951" y="29980"/>
                </a:cubicBezTo>
                <a:cubicBezTo>
                  <a:pt x="91065" y="38037"/>
                  <a:pt x="119921" y="59961"/>
                  <a:pt x="119921" y="59961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任意多边形 51"/>
          <p:cNvSpPr/>
          <p:nvPr/>
        </p:nvSpPr>
        <p:spPr>
          <a:xfrm>
            <a:off x="1397160" y="1628640"/>
            <a:ext cx="150480" cy="46080"/>
          </a:xfrm>
          <a:custGeom>
            <a:avLst/>
            <a:gdLst/>
            <a:ahLst/>
            <a:rect l="l" t="t" r="r" b="b"/>
            <a:pathLst>
              <a:path w="314793" h="89941">
                <a:moveTo>
                  <a:pt x="0" y="0"/>
                </a:moveTo>
                <a:cubicBezTo>
                  <a:pt x="24983" y="14990"/>
                  <a:pt x="51242" y="28035"/>
                  <a:pt x="74950" y="44970"/>
                </a:cubicBezTo>
                <a:cubicBezTo>
                  <a:pt x="146969" y="96412"/>
                  <a:pt x="57016" y="58979"/>
                  <a:pt x="149901" y="89941"/>
                </a:cubicBezTo>
                <a:cubicBezTo>
                  <a:pt x="274618" y="72124"/>
                  <a:pt x="219500" y="74951"/>
                  <a:pt x="314793" y="74951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任意多边形 52"/>
          <p:cNvSpPr/>
          <p:nvPr/>
        </p:nvSpPr>
        <p:spPr>
          <a:xfrm>
            <a:off x="1424160" y="1935000"/>
            <a:ext cx="241200" cy="198720"/>
          </a:xfrm>
          <a:custGeom>
            <a:avLst/>
            <a:gdLst/>
            <a:ahLst/>
            <a:rect l="l" t="t" r="r" b="b"/>
            <a:pathLst>
              <a:path w="241895" h="197564">
                <a:moveTo>
                  <a:pt x="0" y="14990"/>
                </a:moveTo>
                <a:cubicBezTo>
                  <a:pt x="105939" y="-6198"/>
                  <a:pt x="50779" y="-8057"/>
                  <a:pt x="164891" y="29980"/>
                </a:cubicBezTo>
                <a:lnTo>
                  <a:pt x="209862" y="44970"/>
                </a:lnTo>
                <a:cubicBezTo>
                  <a:pt x="238152" y="129842"/>
                  <a:pt x="264942" y="120828"/>
                  <a:pt x="209862" y="164892"/>
                </a:cubicBezTo>
                <a:cubicBezTo>
                  <a:pt x="195794" y="176147"/>
                  <a:pt x="182369" y="190503"/>
                  <a:pt x="164891" y="194872"/>
                </a:cubicBezTo>
                <a:cubicBezTo>
                  <a:pt x="140654" y="200931"/>
                  <a:pt x="114924" y="194872"/>
                  <a:pt x="89941" y="194872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任意多边形 55"/>
          <p:cNvSpPr/>
          <p:nvPr/>
        </p:nvSpPr>
        <p:spPr>
          <a:xfrm>
            <a:off x="1908000" y="2128680"/>
            <a:ext cx="306720" cy="209880"/>
          </a:xfrm>
          <a:custGeom>
            <a:avLst/>
            <a:gdLst/>
            <a:ahLst/>
            <a:rect l="l" t="t" r="r" b="b"/>
            <a:pathLst>
              <a:path w="306724" h="209883">
                <a:moveTo>
                  <a:pt x="0" y="104931"/>
                </a:moveTo>
                <a:cubicBezTo>
                  <a:pt x="9701" y="46727"/>
                  <a:pt x="-9743" y="0"/>
                  <a:pt x="59961" y="0"/>
                </a:cubicBezTo>
                <a:cubicBezTo>
                  <a:pt x="75762" y="0"/>
                  <a:pt x="89942" y="9993"/>
                  <a:pt x="104932" y="14990"/>
                </a:cubicBezTo>
                <a:cubicBezTo>
                  <a:pt x="141489" y="161222"/>
                  <a:pt x="104932" y="-21374"/>
                  <a:pt x="104932" y="149902"/>
                </a:cubicBezTo>
                <a:cubicBezTo>
                  <a:pt x="104932" y="165703"/>
                  <a:pt x="111157" y="118078"/>
                  <a:pt x="119922" y="104931"/>
                </a:cubicBezTo>
                <a:cubicBezTo>
                  <a:pt x="131681" y="87292"/>
                  <a:pt x="149902" y="74951"/>
                  <a:pt x="164892" y="59961"/>
                </a:cubicBezTo>
                <a:cubicBezTo>
                  <a:pt x="209863" y="64958"/>
                  <a:pt x="261434" y="50970"/>
                  <a:pt x="299804" y="74951"/>
                </a:cubicBezTo>
                <a:cubicBezTo>
                  <a:pt x="317275" y="85870"/>
                  <a:pt x="297684" y="118824"/>
                  <a:pt x="284814" y="134912"/>
                </a:cubicBezTo>
                <a:cubicBezTo>
                  <a:pt x="274943" y="147251"/>
                  <a:pt x="254833" y="144905"/>
                  <a:pt x="239843" y="149902"/>
                </a:cubicBezTo>
                <a:cubicBezTo>
                  <a:pt x="229850" y="164892"/>
                  <a:pt x="224853" y="184879"/>
                  <a:pt x="209863" y="194872"/>
                </a:cubicBezTo>
                <a:cubicBezTo>
                  <a:pt x="185559" y="211075"/>
                  <a:pt x="160681" y="209863"/>
                  <a:pt x="134912" y="209863"/>
                </a:cubicBezTo>
              </a:path>
            </a:pathLst>
          </a:custGeom>
          <a:noFill/>
          <a:ln w="176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任意多边形 56"/>
          <p:cNvSpPr/>
          <p:nvPr/>
        </p:nvSpPr>
        <p:spPr>
          <a:xfrm>
            <a:off x="2054160" y="2168640"/>
            <a:ext cx="69840" cy="180720"/>
          </a:xfrm>
          <a:custGeom>
            <a:avLst/>
            <a:gdLst/>
            <a:ahLst/>
            <a:rect l="l" t="t" r="r" b="b"/>
            <a:pathLst>
              <a:path w="165709" h="179882">
                <a:moveTo>
                  <a:pt x="0" y="149902"/>
                </a:moveTo>
                <a:cubicBezTo>
                  <a:pt x="59027" y="2333"/>
                  <a:pt x="-7377" y="127298"/>
                  <a:pt x="74951" y="44970"/>
                </a:cubicBezTo>
                <a:cubicBezTo>
                  <a:pt x="87690" y="32231"/>
                  <a:pt x="86915" y="0"/>
                  <a:pt x="104931" y="0"/>
                </a:cubicBezTo>
                <a:cubicBezTo>
                  <a:pt x="120732" y="0"/>
                  <a:pt x="99125" y="32112"/>
                  <a:pt x="89941" y="44970"/>
                </a:cubicBezTo>
                <a:cubicBezTo>
                  <a:pt x="73512" y="67971"/>
                  <a:pt x="29980" y="104931"/>
                  <a:pt x="29980" y="104931"/>
                </a:cubicBezTo>
                <a:cubicBezTo>
                  <a:pt x="24983" y="119921"/>
                  <a:pt x="-504" y="146803"/>
                  <a:pt x="14990" y="149902"/>
                </a:cubicBezTo>
                <a:cubicBezTo>
                  <a:pt x="56154" y="158135"/>
                  <a:pt x="116187" y="112417"/>
                  <a:pt x="149902" y="89941"/>
                </a:cubicBezTo>
                <a:cubicBezTo>
                  <a:pt x="173544" y="19014"/>
                  <a:pt x="172324" y="45021"/>
                  <a:pt x="134911" y="74951"/>
                </a:cubicBezTo>
                <a:cubicBezTo>
                  <a:pt x="120843" y="86205"/>
                  <a:pt x="104931" y="94938"/>
                  <a:pt x="89941" y="104931"/>
                </a:cubicBezTo>
                <a:cubicBezTo>
                  <a:pt x="79948" y="119921"/>
                  <a:pt x="48706" y="135834"/>
                  <a:pt x="59961" y="149902"/>
                </a:cubicBezTo>
                <a:cubicBezTo>
                  <a:pt x="79703" y="174579"/>
                  <a:pt x="181504" y="179882"/>
                  <a:pt x="149902" y="179882"/>
                </a:cubicBezTo>
                <a:lnTo>
                  <a:pt x="0" y="149902"/>
                </a:lnTo>
                <a:close/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任意多边形 59"/>
          <p:cNvSpPr/>
          <p:nvPr/>
        </p:nvSpPr>
        <p:spPr>
          <a:xfrm>
            <a:off x="1908000" y="2505240"/>
            <a:ext cx="46080" cy="4428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任意多边形 60"/>
          <p:cNvSpPr/>
          <p:nvPr/>
        </p:nvSpPr>
        <p:spPr>
          <a:xfrm>
            <a:off x="1596960" y="2421000"/>
            <a:ext cx="150840" cy="135000"/>
          </a:xfrm>
          <a:custGeom>
            <a:avLst/>
            <a:gdLst/>
            <a:ahLst/>
            <a:rect l="l" t="t" r="r" b="b"/>
            <a:pathLst>
              <a:path w="179881" h="270698">
                <a:moveTo>
                  <a:pt x="0" y="0"/>
                </a:moveTo>
                <a:cubicBezTo>
                  <a:pt x="24983" y="4997"/>
                  <a:pt x="51532" y="4954"/>
                  <a:pt x="74950" y="14990"/>
                </a:cubicBezTo>
                <a:cubicBezTo>
                  <a:pt x="96983" y="24433"/>
                  <a:pt x="123462" y="75629"/>
                  <a:pt x="134911" y="89940"/>
                </a:cubicBezTo>
                <a:cubicBezTo>
                  <a:pt x="143740" y="100976"/>
                  <a:pt x="154898" y="109927"/>
                  <a:pt x="164891" y="119921"/>
                </a:cubicBezTo>
                <a:cubicBezTo>
                  <a:pt x="169888" y="134911"/>
                  <a:pt x="179881" y="149090"/>
                  <a:pt x="179881" y="164891"/>
                </a:cubicBezTo>
                <a:cubicBezTo>
                  <a:pt x="179881" y="195285"/>
                  <a:pt x="179970" y="228443"/>
                  <a:pt x="164891" y="254832"/>
                </a:cubicBezTo>
                <a:cubicBezTo>
                  <a:pt x="152714" y="276142"/>
                  <a:pt x="70256" y="269822"/>
                  <a:pt x="59960" y="269822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任意多边形 61"/>
          <p:cNvSpPr/>
          <p:nvPr/>
        </p:nvSpPr>
        <p:spPr>
          <a:xfrm>
            <a:off x="1547640" y="2432160"/>
            <a:ext cx="46080" cy="601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62"/>
          <p:cNvSpPr/>
          <p:nvPr/>
        </p:nvSpPr>
        <p:spPr>
          <a:xfrm rot="1348800">
            <a:off x="3485880" y="1179360"/>
            <a:ext cx="160200" cy="1108080"/>
          </a:xfrm>
          <a:custGeom>
            <a:avLst/>
            <a:gdLst/>
            <a:ahLst/>
            <a:rect l="l" t="t" r="r" b="b"/>
            <a:pathLst>
              <a:path w="224852" h="1199213">
                <a:moveTo>
                  <a:pt x="224852" y="1199213"/>
                </a:moveTo>
                <a:cubicBezTo>
                  <a:pt x="201525" y="1170054"/>
                  <a:pt x="116033" y="1067627"/>
                  <a:pt x="104931" y="1034321"/>
                </a:cubicBezTo>
                <a:lnTo>
                  <a:pt x="89941" y="989351"/>
                </a:lnTo>
                <a:cubicBezTo>
                  <a:pt x="84944" y="894413"/>
                  <a:pt x="74950" y="799606"/>
                  <a:pt x="74950" y="704537"/>
                </a:cubicBezTo>
                <a:cubicBezTo>
                  <a:pt x="74950" y="629420"/>
                  <a:pt x="89941" y="554802"/>
                  <a:pt x="89941" y="479685"/>
                </a:cubicBezTo>
                <a:cubicBezTo>
                  <a:pt x="89941" y="463884"/>
                  <a:pt x="78782" y="450044"/>
                  <a:pt x="74950" y="434715"/>
                </a:cubicBezTo>
                <a:cubicBezTo>
                  <a:pt x="68770" y="409997"/>
                  <a:pt x="63563" y="384986"/>
                  <a:pt x="59960" y="359764"/>
                </a:cubicBezTo>
                <a:cubicBezTo>
                  <a:pt x="30676" y="154772"/>
                  <a:pt x="59484" y="296947"/>
                  <a:pt x="29980" y="119921"/>
                </a:cubicBezTo>
                <a:cubicBezTo>
                  <a:pt x="25791" y="94789"/>
                  <a:pt x="21169" y="69688"/>
                  <a:pt x="14990" y="44970"/>
                </a:cubicBezTo>
                <a:cubicBezTo>
                  <a:pt x="11158" y="29641"/>
                  <a:pt x="0" y="0"/>
                  <a:pt x="0" y="0"/>
                </a:cubicBezTo>
              </a:path>
            </a:pathLst>
          </a:custGeom>
          <a:solidFill>
            <a:srgbClr val="1f1a17"/>
          </a:solidFill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63"/>
          <p:cNvSpPr/>
          <p:nvPr/>
        </p:nvSpPr>
        <p:spPr>
          <a:xfrm>
            <a:off x="2712960" y="228600"/>
            <a:ext cx="135000" cy="463680"/>
          </a:xfrm>
          <a:custGeom>
            <a:avLst/>
            <a:gdLst/>
            <a:ahLst/>
            <a:rect l="l" t="t" r="r" b="b"/>
            <a:pathLst>
              <a:path w="135018" h="464695">
                <a:moveTo>
                  <a:pt x="0" y="464695"/>
                </a:moveTo>
                <a:cubicBezTo>
                  <a:pt x="4997" y="424721"/>
                  <a:pt x="6549" y="384165"/>
                  <a:pt x="14990" y="344774"/>
                </a:cubicBezTo>
                <a:cubicBezTo>
                  <a:pt x="21611" y="313873"/>
                  <a:pt x="34977" y="284813"/>
                  <a:pt x="44970" y="254833"/>
                </a:cubicBezTo>
                <a:lnTo>
                  <a:pt x="59960" y="209862"/>
                </a:lnTo>
                <a:cubicBezTo>
                  <a:pt x="64957" y="194872"/>
                  <a:pt x="71851" y="180386"/>
                  <a:pt x="74950" y="164892"/>
                </a:cubicBezTo>
                <a:cubicBezTo>
                  <a:pt x="79947" y="139908"/>
                  <a:pt x="83761" y="114659"/>
                  <a:pt x="89941" y="89941"/>
                </a:cubicBezTo>
                <a:cubicBezTo>
                  <a:pt x="93773" y="74612"/>
                  <a:pt x="96802" y="58520"/>
                  <a:pt x="104931" y="44971"/>
                </a:cubicBezTo>
                <a:cubicBezTo>
                  <a:pt x="138444" y="-10885"/>
                  <a:pt x="134911" y="37022"/>
                  <a:pt x="134911" y="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65"/>
          <p:cNvSpPr/>
          <p:nvPr/>
        </p:nvSpPr>
        <p:spPr>
          <a:xfrm>
            <a:off x="2549520" y="344520"/>
            <a:ext cx="223920" cy="150840"/>
          </a:xfrm>
          <a:custGeom>
            <a:avLst/>
            <a:gdLst/>
            <a:ahLst/>
            <a:rect l="l" t="t" r="r" b="b"/>
            <a:pathLst>
              <a:path w="209862" h="180506">
                <a:moveTo>
                  <a:pt x="164892" y="180506"/>
                </a:moveTo>
                <a:cubicBezTo>
                  <a:pt x="142257" y="171452"/>
                  <a:pt x="66104" y="146962"/>
                  <a:pt x="44971" y="120546"/>
                </a:cubicBezTo>
                <a:cubicBezTo>
                  <a:pt x="35100" y="108207"/>
                  <a:pt x="37047" y="89708"/>
                  <a:pt x="29980" y="75575"/>
                </a:cubicBezTo>
                <a:cubicBezTo>
                  <a:pt x="21923" y="59461"/>
                  <a:pt x="9993" y="45595"/>
                  <a:pt x="0" y="30605"/>
                </a:cubicBezTo>
                <a:cubicBezTo>
                  <a:pt x="104931" y="-4373"/>
                  <a:pt x="59961" y="-9370"/>
                  <a:pt x="134912" y="15615"/>
                </a:cubicBezTo>
                <a:cubicBezTo>
                  <a:pt x="144905" y="30605"/>
                  <a:pt x="156835" y="44471"/>
                  <a:pt x="164892" y="60585"/>
                </a:cubicBezTo>
                <a:cubicBezTo>
                  <a:pt x="171958" y="74718"/>
                  <a:pt x="171752" y="92007"/>
                  <a:pt x="179882" y="105556"/>
                </a:cubicBezTo>
                <a:cubicBezTo>
                  <a:pt x="187153" y="117675"/>
                  <a:pt x="199869" y="125543"/>
                  <a:pt x="209862" y="135536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任意多边形 66"/>
          <p:cNvSpPr/>
          <p:nvPr/>
        </p:nvSpPr>
        <p:spPr>
          <a:xfrm>
            <a:off x="2657520" y="404640"/>
            <a:ext cx="190440" cy="907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任意多边形 67"/>
          <p:cNvSpPr/>
          <p:nvPr/>
        </p:nvSpPr>
        <p:spPr>
          <a:xfrm>
            <a:off x="3203640" y="449280"/>
            <a:ext cx="191880" cy="201600"/>
          </a:xfrm>
          <a:custGeom>
            <a:avLst/>
            <a:gdLst/>
            <a:ahLst/>
            <a:rect l="l" t="t" r="r" b="b"/>
            <a:pathLst>
              <a:path w="192365" h="200561">
                <a:moveTo>
                  <a:pt x="0" y="0"/>
                </a:moveTo>
                <a:cubicBezTo>
                  <a:pt x="24984" y="9993"/>
                  <a:pt x="51588" y="16630"/>
                  <a:pt x="74951" y="29980"/>
                </a:cubicBezTo>
                <a:cubicBezTo>
                  <a:pt x="190181" y="95826"/>
                  <a:pt x="8703" y="27886"/>
                  <a:pt x="149902" y="74951"/>
                </a:cubicBezTo>
                <a:cubicBezTo>
                  <a:pt x="161430" y="92243"/>
                  <a:pt x="229498" y="171379"/>
                  <a:pt x="164892" y="194872"/>
                </a:cubicBezTo>
                <a:cubicBezTo>
                  <a:pt x="117699" y="212033"/>
                  <a:pt x="64899" y="185427"/>
                  <a:pt x="14990" y="179882"/>
                </a:cubicBezTo>
                <a:cubicBezTo>
                  <a:pt x="10024" y="179330"/>
                  <a:pt x="24983" y="179882"/>
                  <a:pt x="29980" y="179882"/>
                </a:cubicBezTo>
              </a:path>
            </a:pathLst>
          </a:custGeom>
          <a:noFill/>
          <a:ln w="230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任意多边形 5"/>
          <p:cNvSpPr/>
          <p:nvPr/>
        </p:nvSpPr>
        <p:spPr>
          <a:xfrm>
            <a:off x="3133800" y="189000"/>
            <a:ext cx="164880" cy="195120"/>
          </a:xfrm>
          <a:custGeom>
            <a:avLst/>
            <a:gdLst/>
            <a:ahLst/>
            <a:rect l="l" t="t" r="r" b="b"/>
            <a:pathLst>
              <a:path w="165987" h="194872">
                <a:moveTo>
                  <a:pt x="0" y="194872"/>
                </a:moveTo>
                <a:cubicBezTo>
                  <a:pt x="4997" y="154898"/>
                  <a:pt x="7783" y="114585"/>
                  <a:pt x="14990" y="74950"/>
                </a:cubicBezTo>
                <a:cubicBezTo>
                  <a:pt x="17817" y="59404"/>
                  <a:pt x="20110" y="42318"/>
                  <a:pt x="29981" y="29980"/>
                </a:cubicBezTo>
                <a:cubicBezTo>
                  <a:pt x="41235" y="15912"/>
                  <a:pt x="59961" y="9993"/>
                  <a:pt x="74951" y="0"/>
                </a:cubicBezTo>
                <a:cubicBezTo>
                  <a:pt x="89941" y="4997"/>
                  <a:pt x="107583" y="5119"/>
                  <a:pt x="119922" y="14990"/>
                </a:cubicBezTo>
                <a:cubicBezTo>
                  <a:pt x="139844" y="30927"/>
                  <a:pt x="160714" y="79864"/>
                  <a:pt x="164892" y="104931"/>
                </a:cubicBezTo>
                <a:cubicBezTo>
                  <a:pt x="167356" y="119717"/>
                  <a:pt x="164892" y="134911"/>
                  <a:pt x="164892" y="14990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任意多边形 9"/>
          <p:cNvSpPr/>
          <p:nvPr/>
        </p:nvSpPr>
        <p:spPr>
          <a:xfrm>
            <a:off x="3203640" y="336600"/>
            <a:ext cx="4608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3324240" y="1589040"/>
            <a:ext cx="158760" cy="165240"/>
          </a:xfrm>
          <a:custGeom>
            <a:avLst/>
            <a:gdLst/>
            <a:ahLst/>
            <a:rect l="l" t="t" r="r" b="b"/>
            <a:pathLst>
              <a:path w="201845" h="194872">
                <a:moveTo>
                  <a:pt x="79279" y="194872"/>
                </a:moveTo>
                <a:cubicBezTo>
                  <a:pt x="54295" y="184879"/>
                  <a:pt x="16362" y="188959"/>
                  <a:pt x="4328" y="164892"/>
                </a:cubicBezTo>
                <a:cubicBezTo>
                  <a:pt x="-12421" y="131394"/>
                  <a:pt x="23029" y="56250"/>
                  <a:pt x="49299" y="29980"/>
                </a:cubicBezTo>
                <a:cubicBezTo>
                  <a:pt x="62038" y="17241"/>
                  <a:pt x="79279" y="9993"/>
                  <a:pt x="94269" y="0"/>
                </a:cubicBezTo>
                <a:cubicBezTo>
                  <a:pt x="114256" y="4997"/>
                  <a:pt x="134421" y="9330"/>
                  <a:pt x="154230" y="14990"/>
                </a:cubicBezTo>
                <a:cubicBezTo>
                  <a:pt x="169423" y="19331"/>
                  <a:pt x="195773" y="14555"/>
                  <a:pt x="199201" y="29980"/>
                </a:cubicBezTo>
                <a:cubicBezTo>
                  <a:pt x="207940" y="69306"/>
                  <a:pt x="192949" y="110576"/>
                  <a:pt x="184210" y="149902"/>
                </a:cubicBezTo>
                <a:cubicBezTo>
                  <a:pt x="182677" y="156800"/>
                  <a:pt x="174217" y="159895"/>
                  <a:pt x="169220" y="164892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任意多边形 28"/>
          <p:cNvSpPr/>
          <p:nvPr/>
        </p:nvSpPr>
        <p:spPr>
          <a:xfrm>
            <a:off x="3583080" y="1544760"/>
            <a:ext cx="183960" cy="209520"/>
          </a:xfrm>
          <a:custGeom>
            <a:avLst/>
            <a:gdLst/>
            <a:ahLst/>
            <a:rect l="l" t="t" r="r" b="b"/>
            <a:pathLst>
              <a:path w="183780" h="209862">
                <a:moveTo>
                  <a:pt x="29981" y="14990"/>
                </a:moveTo>
                <a:cubicBezTo>
                  <a:pt x="54964" y="9993"/>
                  <a:pt x="79453" y="0"/>
                  <a:pt x="104931" y="0"/>
                </a:cubicBezTo>
                <a:cubicBezTo>
                  <a:pt x="180031" y="0"/>
                  <a:pt x="214266" y="42963"/>
                  <a:pt x="149902" y="134911"/>
                </a:cubicBezTo>
                <a:cubicBezTo>
                  <a:pt x="131779" y="160800"/>
                  <a:pt x="86256" y="147363"/>
                  <a:pt x="59961" y="164892"/>
                </a:cubicBezTo>
                <a:cubicBezTo>
                  <a:pt x="9110" y="198792"/>
                  <a:pt x="27729" y="182133"/>
                  <a:pt x="0" y="209862"/>
                </a:cubicBezTo>
              </a:path>
            </a:pathLst>
          </a:custGeom>
          <a:noFill/>
          <a:ln w="2412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任意多边形 29"/>
          <p:cNvSpPr/>
          <p:nvPr/>
        </p:nvSpPr>
        <p:spPr>
          <a:xfrm>
            <a:off x="3402000" y="1454040"/>
            <a:ext cx="195120" cy="165240"/>
          </a:xfrm>
          <a:custGeom>
            <a:avLst/>
            <a:gdLst/>
            <a:ahLst/>
            <a:rect l="l" t="t" r="r" b="b"/>
            <a:pathLst>
              <a:path w="195142" h="164892">
                <a:moveTo>
                  <a:pt x="30251" y="164892"/>
                </a:moveTo>
                <a:cubicBezTo>
                  <a:pt x="20257" y="139908"/>
                  <a:pt x="3608" y="116641"/>
                  <a:pt x="270" y="89941"/>
                </a:cubicBezTo>
                <a:cubicBezTo>
                  <a:pt x="-3021" y="63616"/>
                  <a:pt x="24435" y="27474"/>
                  <a:pt x="45241" y="14990"/>
                </a:cubicBezTo>
                <a:cubicBezTo>
                  <a:pt x="58790" y="6861"/>
                  <a:pt x="75221" y="4997"/>
                  <a:pt x="90211" y="0"/>
                </a:cubicBezTo>
                <a:cubicBezTo>
                  <a:pt x="100205" y="9993"/>
                  <a:pt x="108073" y="22709"/>
                  <a:pt x="120192" y="29980"/>
                </a:cubicBezTo>
                <a:cubicBezTo>
                  <a:pt x="133741" y="38109"/>
                  <a:pt x="152824" y="35099"/>
                  <a:pt x="165162" y="44970"/>
                </a:cubicBezTo>
                <a:cubicBezTo>
                  <a:pt x="179230" y="56225"/>
                  <a:pt x="195142" y="89941"/>
                  <a:pt x="195142" y="89941"/>
                </a:cubicBezTo>
              </a:path>
            </a:pathLst>
          </a:custGeom>
          <a:noFill/>
          <a:ln w="190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任意多边形 64"/>
          <p:cNvSpPr/>
          <p:nvPr/>
        </p:nvSpPr>
        <p:spPr>
          <a:xfrm>
            <a:off x="3492360" y="1628640"/>
            <a:ext cx="4464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任意多边形 68"/>
          <p:cNvSpPr/>
          <p:nvPr/>
        </p:nvSpPr>
        <p:spPr>
          <a:xfrm>
            <a:off x="3492360" y="1560600"/>
            <a:ext cx="4464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任意多边形 69"/>
          <p:cNvSpPr/>
          <p:nvPr/>
        </p:nvSpPr>
        <p:spPr>
          <a:xfrm>
            <a:off x="3662280" y="163188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任意多边形 70"/>
          <p:cNvSpPr/>
          <p:nvPr/>
        </p:nvSpPr>
        <p:spPr>
          <a:xfrm>
            <a:off x="3419640" y="1631880"/>
            <a:ext cx="4572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任意多边形 39"/>
          <p:cNvSpPr/>
          <p:nvPr/>
        </p:nvSpPr>
        <p:spPr>
          <a:xfrm>
            <a:off x="3208320" y="1679400"/>
            <a:ext cx="104760" cy="28800"/>
          </a:xfrm>
          <a:custGeom>
            <a:avLst/>
            <a:gdLst/>
            <a:ahLst/>
            <a:rect l="l" t="t" r="r" b="b"/>
            <a:pathLst>
              <a:path w="104931" h="29981">
                <a:moveTo>
                  <a:pt x="0" y="0"/>
                </a:moveTo>
                <a:cubicBezTo>
                  <a:pt x="85907" y="17182"/>
                  <a:pt x="52162" y="3597"/>
                  <a:pt x="104931" y="2998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任意多边形 53"/>
          <p:cNvSpPr/>
          <p:nvPr/>
        </p:nvSpPr>
        <p:spPr>
          <a:xfrm>
            <a:off x="3222720" y="1649520"/>
            <a:ext cx="120600" cy="360"/>
          </a:xfrm>
          <a:custGeom>
            <a:avLst/>
            <a:gdLst/>
            <a:ahLst/>
            <a:rect l="l" t="t" r="r" b="b"/>
            <a:pathLst>
              <a:path w="119922" h="1">
                <a:moveTo>
                  <a:pt x="119922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任意多边形 54"/>
          <p:cNvSpPr/>
          <p:nvPr/>
        </p:nvSpPr>
        <p:spPr>
          <a:xfrm>
            <a:off x="3238560" y="1528920"/>
            <a:ext cx="135000" cy="104760"/>
          </a:xfrm>
          <a:custGeom>
            <a:avLst/>
            <a:gdLst/>
            <a:ahLst/>
            <a:rect l="l" t="t" r="r" b="b"/>
            <a:pathLst>
              <a:path w="134912" h="104931">
                <a:moveTo>
                  <a:pt x="0" y="0"/>
                </a:moveTo>
                <a:cubicBezTo>
                  <a:pt x="24984" y="19987"/>
                  <a:pt x="50659" y="39138"/>
                  <a:pt x="74951" y="59960"/>
                </a:cubicBezTo>
                <a:cubicBezTo>
                  <a:pt x="127986" y="105418"/>
                  <a:pt x="80311" y="77631"/>
                  <a:pt x="134912" y="10493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任意多边形 71"/>
          <p:cNvSpPr/>
          <p:nvPr/>
        </p:nvSpPr>
        <p:spPr>
          <a:xfrm>
            <a:off x="3635280" y="184788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任意多边形 72"/>
          <p:cNvSpPr/>
          <p:nvPr/>
        </p:nvSpPr>
        <p:spPr>
          <a:xfrm>
            <a:off x="3878280" y="177624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任意多边形 73"/>
          <p:cNvSpPr/>
          <p:nvPr/>
        </p:nvSpPr>
        <p:spPr>
          <a:xfrm>
            <a:off x="3949560" y="155736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任意多边形 75"/>
          <p:cNvSpPr/>
          <p:nvPr/>
        </p:nvSpPr>
        <p:spPr>
          <a:xfrm>
            <a:off x="4076640" y="627120"/>
            <a:ext cx="76320" cy="498240"/>
          </a:xfrm>
          <a:custGeom>
            <a:avLst/>
            <a:gdLst/>
            <a:ahLst/>
            <a:rect l="l" t="t" r="r" b="b"/>
            <a:pathLst>
              <a:path w="75260" h="497881">
                <a:moveTo>
                  <a:pt x="75260" y="497881"/>
                </a:moveTo>
                <a:cubicBezTo>
                  <a:pt x="70263" y="472897"/>
                  <a:pt x="69216" y="446786"/>
                  <a:pt x="60270" y="422930"/>
                </a:cubicBezTo>
                <a:cubicBezTo>
                  <a:pt x="53944" y="406061"/>
                  <a:pt x="31672" y="395922"/>
                  <a:pt x="30290" y="377959"/>
                </a:cubicBezTo>
                <a:cubicBezTo>
                  <a:pt x="26439" y="327891"/>
                  <a:pt x="40283" y="278025"/>
                  <a:pt x="45280" y="228058"/>
                </a:cubicBezTo>
                <a:cubicBezTo>
                  <a:pt x="40283" y="183087"/>
                  <a:pt x="41264" y="137042"/>
                  <a:pt x="30290" y="93146"/>
                </a:cubicBezTo>
                <a:cubicBezTo>
                  <a:pt x="25921" y="75668"/>
                  <a:pt x="3272" y="65947"/>
                  <a:pt x="310" y="48176"/>
                </a:cubicBezTo>
                <a:cubicBezTo>
                  <a:pt x="-2288" y="32590"/>
                  <a:pt x="12201" y="-12289"/>
                  <a:pt x="15300" y="3205"/>
                </a:cubicBezTo>
                <a:cubicBezTo>
                  <a:pt x="23139" y="42403"/>
                  <a:pt x="15300" y="83153"/>
                  <a:pt x="15300" y="123127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任意多边形 76"/>
          <p:cNvSpPr/>
          <p:nvPr/>
        </p:nvSpPr>
        <p:spPr>
          <a:xfrm>
            <a:off x="3941640" y="824040"/>
            <a:ext cx="181080" cy="225360"/>
          </a:xfrm>
          <a:custGeom>
            <a:avLst/>
            <a:gdLst/>
            <a:ahLst/>
            <a:rect l="l" t="t" r="r" b="b"/>
            <a:pathLst>
              <a:path w="180285" h="224852">
                <a:moveTo>
                  <a:pt x="180285" y="74951"/>
                </a:moveTo>
                <a:cubicBezTo>
                  <a:pt x="155301" y="64958"/>
                  <a:pt x="128697" y="58321"/>
                  <a:pt x="105334" y="44971"/>
                </a:cubicBezTo>
                <a:cubicBezTo>
                  <a:pt x="-9896" y="-20875"/>
                  <a:pt x="171582" y="47065"/>
                  <a:pt x="30383" y="0"/>
                </a:cubicBezTo>
                <a:cubicBezTo>
                  <a:pt x="20390" y="14990"/>
                  <a:pt x="3365" y="27200"/>
                  <a:pt x="403" y="44971"/>
                </a:cubicBezTo>
                <a:cubicBezTo>
                  <a:pt x="-2195" y="60557"/>
                  <a:pt x="8327" y="75808"/>
                  <a:pt x="15393" y="89941"/>
                </a:cubicBezTo>
                <a:cubicBezTo>
                  <a:pt x="24145" y="107445"/>
                  <a:pt x="55438" y="152942"/>
                  <a:pt x="75354" y="164892"/>
                </a:cubicBezTo>
                <a:cubicBezTo>
                  <a:pt x="88903" y="173022"/>
                  <a:pt x="105334" y="174885"/>
                  <a:pt x="120324" y="179882"/>
                </a:cubicBezTo>
                <a:cubicBezTo>
                  <a:pt x="158206" y="217762"/>
                  <a:pt x="137664" y="203542"/>
                  <a:pt x="180285" y="224852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任意多边形 77"/>
          <p:cNvSpPr/>
          <p:nvPr/>
        </p:nvSpPr>
        <p:spPr>
          <a:xfrm>
            <a:off x="4030560" y="912960"/>
            <a:ext cx="4608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任意多边形 79"/>
          <p:cNvSpPr/>
          <p:nvPr/>
        </p:nvSpPr>
        <p:spPr>
          <a:xfrm>
            <a:off x="4122720" y="928800"/>
            <a:ext cx="165240" cy="180720"/>
          </a:xfrm>
          <a:custGeom>
            <a:avLst/>
            <a:gdLst/>
            <a:ahLst/>
            <a:rect l="l" t="t" r="r" b="b"/>
            <a:pathLst>
              <a:path w="164892" h="180456">
                <a:moveTo>
                  <a:pt x="0" y="30032"/>
                </a:moveTo>
                <a:cubicBezTo>
                  <a:pt x="57607" y="6990"/>
                  <a:pt x="68223" y="-15977"/>
                  <a:pt x="119921" y="15042"/>
                </a:cubicBezTo>
                <a:cubicBezTo>
                  <a:pt x="132040" y="22314"/>
                  <a:pt x="139908" y="35029"/>
                  <a:pt x="149902" y="45023"/>
                </a:cubicBezTo>
                <a:cubicBezTo>
                  <a:pt x="154899" y="60013"/>
                  <a:pt x="164892" y="74192"/>
                  <a:pt x="164892" y="89993"/>
                </a:cubicBezTo>
                <a:cubicBezTo>
                  <a:pt x="164892" y="105794"/>
                  <a:pt x="158032" y="121415"/>
                  <a:pt x="149902" y="134964"/>
                </a:cubicBezTo>
                <a:cubicBezTo>
                  <a:pt x="142631" y="147083"/>
                  <a:pt x="132562" y="158624"/>
                  <a:pt x="119921" y="164944"/>
                </a:cubicBezTo>
                <a:cubicBezTo>
                  <a:pt x="80245" y="184782"/>
                  <a:pt x="42072" y="179934"/>
                  <a:pt x="0" y="179934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任意多边形 81"/>
          <p:cNvSpPr/>
          <p:nvPr/>
        </p:nvSpPr>
        <p:spPr>
          <a:xfrm>
            <a:off x="3987720" y="2413080"/>
            <a:ext cx="193680" cy="150840"/>
          </a:xfrm>
          <a:custGeom>
            <a:avLst/>
            <a:gdLst/>
            <a:ahLst/>
            <a:rect l="l" t="t" r="r" b="b"/>
            <a:pathLst>
              <a:path w="194872" h="149920">
                <a:moveTo>
                  <a:pt x="0" y="149920"/>
                </a:moveTo>
                <a:cubicBezTo>
                  <a:pt x="79877" y="16789"/>
                  <a:pt x="2807" y="108387"/>
                  <a:pt x="89941" y="59979"/>
                </a:cubicBezTo>
                <a:cubicBezTo>
                  <a:pt x="202860" y="-2754"/>
                  <a:pt x="141240" y="18"/>
                  <a:pt x="194872" y="18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任意多边形 82"/>
          <p:cNvSpPr/>
          <p:nvPr/>
        </p:nvSpPr>
        <p:spPr>
          <a:xfrm>
            <a:off x="3103560" y="2459160"/>
            <a:ext cx="254160" cy="58680"/>
          </a:xfrm>
          <a:custGeom>
            <a:avLst/>
            <a:gdLst/>
            <a:ahLst/>
            <a:rect l="l" t="t" r="r" b="b"/>
            <a:pathLst>
              <a:path w="254833" h="59961">
                <a:moveTo>
                  <a:pt x="0" y="0"/>
                </a:moveTo>
                <a:cubicBezTo>
                  <a:pt x="22359" y="8943"/>
                  <a:pt x="145651" y="59961"/>
                  <a:pt x="164892" y="59961"/>
                </a:cubicBezTo>
                <a:lnTo>
                  <a:pt x="254833" y="59961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任意多边形 84"/>
          <p:cNvSpPr/>
          <p:nvPr/>
        </p:nvSpPr>
        <p:spPr>
          <a:xfrm>
            <a:off x="638280" y="907920"/>
            <a:ext cx="46080" cy="698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任意多边形 85"/>
          <p:cNvSpPr/>
          <p:nvPr/>
        </p:nvSpPr>
        <p:spPr>
          <a:xfrm>
            <a:off x="755640" y="119700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任意多边形 86"/>
          <p:cNvSpPr/>
          <p:nvPr/>
        </p:nvSpPr>
        <p:spPr>
          <a:xfrm>
            <a:off x="3492360" y="2424240"/>
            <a:ext cx="4464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任意多边形 87"/>
          <p:cNvSpPr/>
          <p:nvPr/>
        </p:nvSpPr>
        <p:spPr>
          <a:xfrm>
            <a:off x="2700360" y="1992240"/>
            <a:ext cx="442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任意多边形 88"/>
          <p:cNvSpPr/>
          <p:nvPr/>
        </p:nvSpPr>
        <p:spPr>
          <a:xfrm>
            <a:off x="2050920" y="162864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任意多边形 89"/>
          <p:cNvSpPr/>
          <p:nvPr/>
        </p:nvSpPr>
        <p:spPr>
          <a:xfrm>
            <a:off x="2038320" y="1798560"/>
            <a:ext cx="135000" cy="165240"/>
          </a:xfrm>
          <a:custGeom>
            <a:avLst/>
            <a:gdLst/>
            <a:ahLst/>
            <a:rect l="l" t="t" r="r" b="b"/>
            <a:pathLst>
              <a:path w="134912" h="164891">
                <a:moveTo>
                  <a:pt x="29981" y="0"/>
                </a:moveTo>
                <a:cubicBezTo>
                  <a:pt x="54964" y="19987"/>
                  <a:pt x="86583" y="33749"/>
                  <a:pt x="104931" y="59960"/>
                </a:cubicBezTo>
                <a:cubicBezTo>
                  <a:pt x="123054" y="85849"/>
                  <a:pt x="134912" y="149901"/>
                  <a:pt x="134912" y="149901"/>
                </a:cubicBezTo>
                <a:cubicBezTo>
                  <a:pt x="119922" y="154898"/>
                  <a:pt x="105742" y="164891"/>
                  <a:pt x="89941" y="164891"/>
                </a:cubicBezTo>
                <a:cubicBezTo>
                  <a:pt x="59547" y="164891"/>
                  <a:pt x="0" y="149901"/>
                  <a:pt x="0" y="14990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90"/>
          <p:cNvGrpSpPr/>
          <p:nvPr/>
        </p:nvGrpSpPr>
        <p:grpSpPr>
          <a:xfrm>
            <a:off x="5315040" y="5829480"/>
            <a:ext cx="349200" cy="263520"/>
            <a:chOff x="5315040" y="5829480"/>
            <a:chExt cx="349200" cy="263520"/>
          </a:xfrm>
        </p:grpSpPr>
        <p:sp>
          <p:nvSpPr>
            <p:cNvPr id="133" name="任意多边形 91"/>
            <p:cNvSpPr/>
            <p:nvPr/>
          </p:nvSpPr>
          <p:spPr>
            <a:xfrm>
              <a:off x="5315040" y="5829480"/>
              <a:ext cx="349200" cy="263520"/>
            </a:xfrm>
            <a:custGeom>
              <a:avLst/>
              <a:gdLst/>
              <a:ahLst/>
              <a:rect l="l" t="t" r="r" b="b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椭圆 92"/>
            <p:cNvSpPr/>
            <p:nvPr/>
          </p:nvSpPr>
          <p:spPr>
            <a:xfrm>
              <a:off x="5386320" y="5850720"/>
              <a:ext cx="216720" cy="2001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椭圆 93"/>
            <p:cNvSpPr/>
            <p:nvPr/>
          </p:nvSpPr>
          <p:spPr>
            <a:xfrm>
              <a:off x="5413320" y="5889240"/>
              <a:ext cx="164880" cy="13500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合 96"/>
          <p:cNvGrpSpPr/>
          <p:nvPr/>
        </p:nvGrpSpPr>
        <p:grpSpPr>
          <a:xfrm>
            <a:off x="6372360" y="5614920"/>
            <a:ext cx="792000" cy="671760"/>
            <a:chOff x="6372360" y="5614920"/>
            <a:chExt cx="792000" cy="671760"/>
          </a:xfrm>
        </p:grpSpPr>
        <p:sp>
          <p:nvSpPr>
            <p:cNvPr id="137" name="任意多边形 97"/>
            <p:cNvSpPr/>
            <p:nvPr/>
          </p:nvSpPr>
          <p:spPr>
            <a:xfrm>
              <a:off x="6372360" y="5614920"/>
              <a:ext cx="792000" cy="671760"/>
            </a:xfrm>
            <a:custGeom>
              <a:avLst/>
              <a:gdLst/>
              <a:ahLst/>
              <a:rect l="l" t="t" r="r" b="b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椭圆 98"/>
            <p:cNvSpPr/>
            <p:nvPr/>
          </p:nvSpPr>
          <p:spPr>
            <a:xfrm>
              <a:off x="6534000" y="5668920"/>
              <a:ext cx="491760" cy="5097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椭圆 99"/>
            <p:cNvSpPr/>
            <p:nvPr/>
          </p:nvSpPr>
          <p:spPr>
            <a:xfrm>
              <a:off x="6595560" y="5766840"/>
              <a:ext cx="373680" cy="34416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任意多边形 108" descr=""/>
          <p:cNvPicPr/>
          <p:nvPr/>
        </p:nvPicPr>
        <p:blipFill>
          <a:blip r:embed="rId6"/>
          <a:stretch/>
        </p:blipFill>
        <p:spPr>
          <a:xfrm>
            <a:off x="6797520" y="-63360"/>
            <a:ext cx="2024280" cy="3563640"/>
          </a:xfrm>
          <a:prstGeom prst="rect">
            <a:avLst/>
          </a:prstGeom>
          <a:ln w="0">
            <a:noFill/>
          </a:ln>
        </p:spPr>
      </p:pic>
      <p:pic>
        <p:nvPicPr>
          <p:cNvPr id="141" name="任意多边形 114" descr=""/>
          <p:cNvPicPr/>
          <p:nvPr/>
        </p:nvPicPr>
        <p:blipFill>
          <a:blip r:embed="rId7"/>
          <a:stretch/>
        </p:blipFill>
        <p:spPr>
          <a:xfrm>
            <a:off x="7812000" y="3132000"/>
            <a:ext cx="1420920" cy="38404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17"/>
          <p:cNvSpPr/>
          <p:nvPr/>
        </p:nvSpPr>
        <p:spPr>
          <a:xfrm>
            <a:off x="1116000" y="2970360"/>
            <a:ext cx="332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叶根友毛笔行书"/>
                <a:ea typeface="叶根友毛笔行书"/>
              </a:rPr>
              <a:t>中国风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18"/>
          <p:cNvSpPr/>
          <p:nvPr/>
        </p:nvSpPr>
        <p:spPr>
          <a:xfrm>
            <a:off x="8174160" y="171360"/>
            <a:ext cx="80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华文隶书"/>
                <a:ea typeface="华文隶书"/>
              </a:rPr>
              <a:t>爱 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19"/>
          <p:cNvSpPr/>
          <p:nvPr/>
        </p:nvSpPr>
        <p:spPr>
          <a:xfrm>
            <a:off x="7262640" y="36360"/>
            <a:ext cx="49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明 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20"/>
          <p:cNvSpPr/>
          <p:nvPr/>
        </p:nvSpPr>
        <p:spPr>
          <a:xfrm>
            <a:off x="7626240" y="419040"/>
            <a:ext cx="5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6a6a6"/>
                </a:solidFill>
                <a:latin typeface="Calibri"/>
              </a:rPr>
              <a:t>持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21"/>
          <p:cNvSpPr/>
          <p:nvPr/>
        </p:nvSpPr>
        <p:spPr>
          <a:xfrm>
            <a:off x="7726680" y="1039680"/>
            <a:ext cx="4852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22"/>
          <p:cNvSpPr/>
          <p:nvPr/>
        </p:nvSpPr>
        <p:spPr>
          <a:xfrm>
            <a:off x="7353360" y="159696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华文隶书"/>
                <a:ea typeface="华文隶书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23"/>
          <p:cNvSpPr/>
          <p:nvPr/>
        </p:nvSpPr>
        <p:spPr>
          <a:xfrm>
            <a:off x="7709040" y="1397160"/>
            <a:ext cx="109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f7f7f"/>
                </a:solidFill>
                <a:latin typeface="华文隶书"/>
                <a:ea typeface="华文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24"/>
          <p:cNvSpPr/>
          <p:nvPr/>
        </p:nvSpPr>
        <p:spPr>
          <a:xfrm>
            <a:off x="8550360" y="3641760"/>
            <a:ext cx="6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华文隶书"/>
                <a:ea typeface="华文隶书"/>
              </a:rPr>
              <a:t>诚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25"/>
          <p:cNvSpPr/>
          <p:nvPr/>
        </p:nvSpPr>
        <p:spPr>
          <a:xfrm>
            <a:off x="8379000" y="33084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华文隶书"/>
                <a:ea typeface="华文隶书"/>
              </a:rPr>
              <a:t>知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26"/>
          <p:cNvSpPr/>
          <p:nvPr/>
        </p:nvSpPr>
        <p:spPr>
          <a:xfrm>
            <a:off x="8443800" y="16207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华文行楷"/>
                <a:ea typeface="华文行楷"/>
              </a:rPr>
              <a:t>改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任意多边形 32" descr=""/>
          <p:cNvPicPr/>
          <p:nvPr/>
        </p:nvPicPr>
        <p:blipFill>
          <a:blip r:embed="rId8"/>
          <a:stretch/>
        </p:blipFill>
        <p:spPr>
          <a:xfrm>
            <a:off x="4788000" y="3036960"/>
            <a:ext cx="1439640" cy="1400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80"/>
          <p:cNvSpPr/>
          <p:nvPr/>
        </p:nvSpPr>
        <p:spPr>
          <a:xfrm>
            <a:off x="5022720" y="3213000"/>
            <a:ext cx="106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94"/>
          <p:cNvSpPr/>
          <p:nvPr/>
        </p:nvSpPr>
        <p:spPr>
          <a:xfrm>
            <a:off x="4284720" y="3357720"/>
            <a:ext cx="4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4"/>
          <p:cNvSpPr/>
          <p:nvPr/>
        </p:nvSpPr>
        <p:spPr>
          <a:xfrm>
            <a:off x="784080" y="428472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任意多边形 58" descr=""/>
          <p:cNvPicPr/>
          <p:nvPr/>
        </p:nvPicPr>
        <p:blipFill>
          <a:blip r:embed="rId2"/>
          <a:stretch/>
        </p:blipFill>
        <p:spPr>
          <a:xfrm>
            <a:off x="2266920" y="5253120"/>
            <a:ext cx="7051680" cy="1776240"/>
          </a:xfrm>
          <a:prstGeom prst="rect">
            <a:avLst/>
          </a:prstGeom>
          <a:ln w="0">
            <a:noFill/>
          </a:ln>
        </p:spPr>
      </p:pic>
      <p:pic>
        <p:nvPicPr>
          <p:cNvPr id="157" name="任意多边形 128" descr=""/>
          <p:cNvPicPr/>
          <p:nvPr/>
        </p:nvPicPr>
        <p:blipFill>
          <a:blip r:embed="rId3"/>
          <a:stretch/>
        </p:blipFill>
        <p:spPr>
          <a:xfrm>
            <a:off x="-324000" y="4205160"/>
            <a:ext cx="3571920" cy="2756160"/>
          </a:xfrm>
          <a:prstGeom prst="rect">
            <a:avLst/>
          </a:prstGeom>
          <a:ln w="0">
            <a:noFill/>
          </a:ln>
        </p:spPr>
      </p:pic>
      <p:pic>
        <p:nvPicPr>
          <p:cNvPr id="158" name="椭圆 130" descr=""/>
          <p:cNvPicPr/>
          <p:nvPr/>
        </p:nvPicPr>
        <p:blipFill>
          <a:blip r:embed="rId4"/>
          <a:stretch/>
        </p:blipFill>
        <p:spPr>
          <a:xfrm>
            <a:off x="5078520" y="3430440"/>
            <a:ext cx="576000" cy="568440"/>
          </a:xfrm>
          <a:prstGeom prst="rect">
            <a:avLst/>
          </a:prstGeom>
          <a:ln w="0">
            <a:noFill/>
          </a:ln>
        </p:spPr>
      </p:pic>
      <p:pic>
        <p:nvPicPr>
          <p:cNvPr id="159" name="任意多边形 134" descr=""/>
          <p:cNvPicPr/>
          <p:nvPr/>
        </p:nvPicPr>
        <p:blipFill>
          <a:blip r:embed="rId5"/>
          <a:stretch/>
        </p:blipFill>
        <p:spPr>
          <a:xfrm>
            <a:off x="4930920" y="3139920"/>
            <a:ext cx="577800" cy="6350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94" descr=""/>
          <p:cNvPicPr/>
          <p:nvPr/>
        </p:nvPicPr>
        <p:blipFill>
          <a:blip r:embed="rId6"/>
          <a:stretch/>
        </p:blipFill>
        <p:spPr>
          <a:xfrm>
            <a:off x="34920" y="4016520"/>
            <a:ext cx="3213000" cy="284292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合 137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162" name="矩形 138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139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矩形 140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矩形 141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42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矩形 143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矩形 144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45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矩形 146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矩形 147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148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149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150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151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152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153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154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155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156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157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158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159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160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161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矩形 162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矩形 163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矩形 164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矩形 165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矩形 166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167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 168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矩形 169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170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矩形 171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矩形 172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173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174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矩形 175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176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矩形 177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矩形 178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179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矩形 180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矩形 181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矩形 182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183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矩形 184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185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186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187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矩形 188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189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矩形 190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矩形 191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192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矩形 193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219" name="任意多边形 129" descr=""/>
            <p:cNvPicPr/>
            <p:nvPr/>
          </p:nvPicPr>
          <p:blipFill>
            <a:blip r:embed="rId7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直接连接符 136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Box 196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Box 197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TextBox 198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Box 135"/>
          <p:cNvSpPr/>
          <p:nvPr/>
        </p:nvSpPr>
        <p:spPr>
          <a:xfrm>
            <a:off x="3616560" y="1417680"/>
            <a:ext cx="1460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门如见大宾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民如承大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己所不欲，勿施于人。在邦无怨，在家无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任意多边形 200" descr=""/>
          <p:cNvPicPr/>
          <p:nvPr/>
        </p:nvPicPr>
        <p:blipFill>
          <a:blip r:embed="rId8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01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任意多边形 76" descr=""/>
          <p:cNvPicPr/>
          <p:nvPr/>
        </p:nvPicPr>
        <p:blipFill>
          <a:blip r:embed="rId9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228" name="任意多边形 77" descr=""/>
          <p:cNvPicPr/>
          <p:nvPr/>
        </p:nvPicPr>
        <p:blipFill>
          <a:blip r:embed="rId10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9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仁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接连接符 75"/>
          <p:cNvSpPr/>
          <p:nvPr/>
        </p:nvSpPr>
        <p:spPr>
          <a:xfrm>
            <a:off x="4606920" y="15177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接连接符 80"/>
          <p:cNvSpPr/>
          <p:nvPr/>
        </p:nvSpPr>
        <p:spPr>
          <a:xfrm>
            <a:off x="4140360" y="15303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接连接符 81"/>
          <p:cNvSpPr/>
          <p:nvPr/>
        </p:nvSpPr>
        <p:spPr>
          <a:xfrm>
            <a:off x="3708360" y="1557360"/>
            <a:ext cx="0" cy="33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接连接符 82"/>
          <p:cNvSpPr/>
          <p:nvPr/>
        </p:nvSpPr>
        <p:spPr>
          <a:xfrm>
            <a:off x="3260880" y="1557360"/>
            <a:ext cx="21960" cy="33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235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236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孝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93"/>
          <p:cNvSpPr/>
          <p:nvPr/>
        </p:nvSpPr>
        <p:spPr>
          <a:xfrm>
            <a:off x="2730600" y="1628640"/>
            <a:ext cx="27399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之孝者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谓能养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至于犬马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皆能有养，不敬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何以别乎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241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298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3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图片 7" descr=""/>
          <p:cNvPicPr/>
          <p:nvPr/>
        </p:nvPicPr>
        <p:blipFill>
          <a:blip r:embed="rId7"/>
          <a:stretch/>
        </p:blipFill>
        <p:spPr>
          <a:xfrm>
            <a:off x="-27000" y="4524480"/>
            <a:ext cx="3013200" cy="2390760"/>
          </a:xfrm>
          <a:prstGeom prst="rect">
            <a:avLst/>
          </a:prstGeom>
          <a:ln w="0">
            <a:noFill/>
          </a:ln>
        </p:spPr>
      </p:pic>
      <p:sp>
        <p:nvSpPr>
          <p:cNvPr id="306" name="直接连接符 73"/>
          <p:cNvSpPr/>
          <p:nvPr/>
        </p:nvSpPr>
        <p:spPr>
          <a:xfrm>
            <a:off x="5003640" y="165420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直接连接符 75"/>
          <p:cNvSpPr/>
          <p:nvPr/>
        </p:nvSpPr>
        <p:spPr>
          <a:xfrm>
            <a:off x="457200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直接连接符 76"/>
          <p:cNvSpPr/>
          <p:nvPr/>
        </p:nvSpPr>
        <p:spPr>
          <a:xfrm>
            <a:off x="414036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直接连接符 77"/>
          <p:cNvSpPr/>
          <p:nvPr/>
        </p:nvSpPr>
        <p:spPr>
          <a:xfrm flipH="1">
            <a:off x="3688920" y="1700280"/>
            <a:ext cx="19080" cy="257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直接连接符 79"/>
          <p:cNvSpPr/>
          <p:nvPr/>
        </p:nvSpPr>
        <p:spPr>
          <a:xfrm>
            <a:off x="3251160" y="172404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312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313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314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悌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93"/>
          <p:cNvSpPr/>
          <p:nvPr/>
        </p:nvSpPr>
        <p:spPr>
          <a:xfrm>
            <a:off x="3123720" y="1700280"/>
            <a:ext cx="2313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弟子入则孝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则悌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谨而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泛爱众而亲仁。行有余力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则以学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18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375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0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图片 7" descr=""/>
          <p:cNvPicPr/>
          <p:nvPr/>
        </p:nvPicPr>
        <p:blipFill>
          <a:blip r:embed="rId7"/>
          <a:stretch/>
        </p:blipFill>
        <p:spPr>
          <a:xfrm>
            <a:off x="-22320" y="4221000"/>
            <a:ext cx="3152880" cy="2702160"/>
          </a:xfrm>
          <a:prstGeom prst="rect">
            <a:avLst/>
          </a:prstGeom>
          <a:ln w="0">
            <a:noFill/>
          </a:ln>
        </p:spPr>
      </p:pic>
      <p:sp>
        <p:nvSpPr>
          <p:cNvPr id="383" name="直接连接符 73"/>
          <p:cNvSpPr/>
          <p:nvPr/>
        </p:nvSpPr>
        <p:spPr>
          <a:xfrm>
            <a:off x="4932360" y="1654200"/>
            <a:ext cx="0" cy="20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直接连接符 75"/>
          <p:cNvSpPr/>
          <p:nvPr/>
        </p:nvSpPr>
        <p:spPr>
          <a:xfrm>
            <a:off x="4500720" y="175896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直接连接符 76"/>
          <p:cNvSpPr/>
          <p:nvPr/>
        </p:nvSpPr>
        <p:spPr>
          <a:xfrm flipH="1">
            <a:off x="4067280" y="1773360"/>
            <a:ext cx="144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直接连接符 77"/>
          <p:cNvSpPr/>
          <p:nvPr/>
        </p:nvSpPr>
        <p:spPr>
          <a:xfrm>
            <a:off x="3635280" y="1773360"/>
            <a:ext cx="0" cy="24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直接连接符 78"/>
          <p:cNvSpPr/>
          <p:nvPr/>
        </p:nvSpPr>
        <p:spPr>
          <a:xfrm>
            <a:off x="3205080" y="1773360"/>
            <a:ext cx="0" cy="143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直接连接符 80"/>
          <p:cNvSpPr/>
          <p:nvPr/>
        </p:nvSpPr>
        <p:spPr>
          <a:xfrm>
            <a:off x="2743200" y="1785960"/>
            <a:ext cx="0" cy="14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390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391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忠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93"/>
          <p:cNvSpPr/>
          <p:nvPr/>
        </p:nvSpPr>
        <p:spPr>
          <a:xfrm>
            <a:off x="2971440" y="1674720"/>
            <a:ext cx="2313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君子不重则不威，学则不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忠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友不如己者，过则勿惮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96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2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453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8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图片 1" descr=""/>
          <p:cNvPicPr/>
          <p:nvPr/>
        </p:nvPicPr>
        <p:blipFill>
          <a:blip r:embed="rId7"/>
          <a:stretch/>
        </p:blipFill>
        <p:spPr>
          <a:xfrm>
            <a:off x="-9360" y="4581360"/>
            <a:ext cx="3292200" cy="2308320"/>
          </a:xfrm>
          <a:prstGeom prst="rect">
            <a:avLst/>
          </a:prstGeom>
          <a:ln w="0">
            <a:noFill/>
          </a:ln>
        </p:spPr>
      </p:pic>
      <p:sp>
        <p:nvSpPr>
          <p:cNvPr id="461" name="直接连接符 73"/>
          <p:cNvSpPr/>
          <p:nvPr/>
        </p:nvSpPr>
        <p:spPr>
          <a:xfrm>
            <a:off x="4788000" y="1758960"/>
            <a:ext cx="0" cy="276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直接连接符 75"/>
          <p:cNvSpPr/>
          <p:nvPr/>
        </p:nvSpPr>
        <p:spPr>
          <a:xfrm>
            <a:off x="4357800" y="1758960"/>
            <a:ext cx="0" cy="163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直接连接符 77"/>
          <p:cNvSpPr/>
          <p:nvPr/>
        </p:nvSpPr>
        <p:spPr>
          <a:xfrm>
            <a:off x="3924360" y="1758960"/>
            <a:ext cx="0" cy="123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直接连接符 79"/>
          <p:cNvSpPr/>
          <p:nvPr/>
        </p:nvSpPr>
        <p:spPr>
          <a:xfrm>
            <a:off x="3492360" y="1758960"/>
            <a:ext cx="0" cy="242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直接连接符 81"/>
          <p:cNvSpPr/>
          <p:nvPr/>
        </p:nvSpPr>
        <p:spPr>
          <a:xfrm>
            <a:off x="2987640" y="1830240"/>
            <a:ext cx="0" cy="174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467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468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信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93"/>
          <p:cNvSpPr/>
          <p:nvPr/>
        </p:nvSpPr>
        <p:spPr>
          <a:xfrm>
            <a:off x="2730600" y="1628640"/>
            <a:ext cx="27399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而无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知其可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车无輗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车无軏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其何以行之哉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473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530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5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图片 1" descr=""/>
          <p:cNvPicPr/>
          <p:nvPr/>
        </p:nvPicPr>
        <p:blipFill>
          <a:blip r:embed="rId7"/>
          <a:stretch/>
        </p:blipFill>
        <p:spPr>
          <a:xfrm>
            <a:off x="-19080" y="4079880"/>
            <a:ext cx="3032280" cy="28242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3"/>
          <p:cNvSpPr/>
          <p:nvPr/>
        </p:nvSpPr>
        <p:spPr>
          <a:xfrm>
            <a:off x="500364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直接连接符 75"/>
          <p:cNvSpPr/>
          <p:nvPr/>
        </p:nvSpPr>
        <p:spPr>
          <a:xfrm>
            <a:off x="4572000" y="1758960"/>
            <a:ext cx="0" cy="170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接连接符 77"/>
          <p:cNvSpPr/>
          <p:nvPr/>
        </p:nvSpPr>
        <p:spPr>
          <a:xfrm>
            <a:off x="414036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接连接符 79"/>
          <p:cNvSpPr/>
          <p:nvPr/>
        </p:nvSpPr>
        <p:spPr>
          <a:xfrm>
            <a:off x="3708360" y="1758960"/>
            <a:ext cx="0" cy="138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直接连接符 81"/>
          <p:cNvSpPr/>
          <p:nvPr/>
        </p:nvSpPr>
        <p:spPr>
          <a:xfrm>
            <a:off x="3276720" y="175896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544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7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552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556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6:46:00Z</dcterms:created>
  <dc:creator>Administrator</dc:creator>
  <dc:description/>
  <dc:language>en-US</dc:language>
  <cp:lastModifiedBy>Administrator</cp:lastModifiedBy>
  <dcterms:modified xsi:type="dcterms:W3CDTF">2017-04-05T07:48:54Z</dcterms:modified>
  <cp:revision>1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