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198-18B6-40ED-9F73-C19568E8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803-07A6-4C4E-B0F2-393BBC2D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FDB-7F46-46AA-98AD-216DEB74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9CF-CD9F-4D3E-939D-3E129EA9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43F-B414-45B8-B496-4E8460D2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155-6018-4913-AB2A-DF84F296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0CD-FDAE-4538-B8E7-F984D637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557-9901-4C0E-B72C-F4749F33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D5E-0322-4608-A709-48296D6D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5D4-0BA8-49CD-A631-5837CF38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C0C-F7FC-4326-B30E-DD7D1EF5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E68-F30B-4987-9562-48DA92DA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C:\Documents and Settings\Administrator\桌面\2.png"/>
          <p:cNvPicPr/>
          <p:nvPr/>
        </p:nvPicPr>
        <p:blipFill>
          <a:blip r:embed="rId3"/>
          <a:stretch/>
        </p:blipFill>
        <p:spPr>
          <a:xfrm>
            <a:off x="-47520" y="-717480"/>
            <a:ext cx="6783120" cy="6892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C:\Documents and Settings\Administrator\桌面\莲 (11).png"/>
          <p:cNvPicPr/>
          <p:nvPr/>
        </p:nvPicPr>
        <p:blipFill>
          <a:blip r:embed="rId4"/>
          <a:srcRect l="22860" t="21438" r="0" b="0"/>
          <a:stretch/>
        </p:blipFill>
        <p:spPr>
          <a:xfrm>
            <a:off x="34920" y="1076400"/>
            <a:ext cx="6415200" cy="4734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1119240" y="165240"/>
            <a:ext cx="3957480" cy="5619600"/>
          </a:xfrm>
          <a:prstGeom prst="rect">
            <a:avLst/>
          </a:prstGeom>
          <a:ln w="0">
            <a:noFill/>
          </a:ln>
        </p:spPr>
      </p:pic>
      <p:sp>
        <p:nvSpPr>
          <p:cNvPr id="4" name="矩形 10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4859280" y="2425680"/>
            <a:ext cx="9540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2" descr="C:\Documents and Settings\Administrator\桌面\2.png"/>
          <p:cNvPicPr/>
          <p:nvPr/>
        </p:nvPicPr>
        <p:blipFill>
          <a:blip r:embed="rId6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istrator\桌面\莲.png"/>
          <p:cNvPicPr/>
          <p:nvPr/>
        </p:nvPicPr>
        <p:blipFill>
          <a:blip r:embed="rId4"/>
          <a:stretch/>
        </p:blipFill>
        <p:spPr>
          <a:xfrm>
            <a:off x="706320" y="19080"/>
            <a:ext cx="1792440" cy="766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666A-3BC4-4E4C-86C0-451DCA9B477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矩形 3" descr=""/>
          <p:cNvPicPr/>
          <p:nvPr/>
        </p:nvPicPr>
        <p:blipFill>
          <a:blip r:embed="rId1"/>
          <a:stretch/>
        </p:blipFill>
        <p:spPr>
          <a:xfrm>
            <a:off x="4930920" y="2316240"/>
            <a:ext cx="4608360" cy="98568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5199840" y="309888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文本框 1" descr=""/>
          <p:cNvPicPr/>
          <p:nvPr/>
        </p:nvPicPr>
        <p:blipFill>
          <a:blip r:embed="rId2"/>
          <a:stretch/>
        </p:blipFill>
        <p:spPr>
          <a:xfrm>
            <a:off x="3132000" y="3649680"/>
            <a:ext cx="4240440" cy="368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3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4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5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98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99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3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4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5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08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09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7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7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50"/>
                            </p:stCondLst>
                            <p:childTnLst>
                              <p:par>
                                <p:cTn id="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5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5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1116000" y="98568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矩形 4" descr=""/>
          <p:cNvPicPr/>
          <p:nvPr/>
        </p:nvPicPr>
        <p:blipFill>
          <a:blip r:embed="rId1"/>
          <a:stretch/>
        </p:blipFill>
        <p:spPr>
          <a:xfrm>
            <a:off x="5495760" y="2568600"/>
            <a:ext cx="3922920" cy="985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2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3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1T09:01:50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