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23F-DE24-4F90-8190-E20C1B03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489-9F97-4CB6-A413-6671C959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D79-7B65-4064-9EAE-73B5092A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58A-188A-4A8A-B3F1-F10AA79C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C6D-F582-478B-80CC-C6A405CB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B81-3DC2-481E-BAAE-F985B0AA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60D-28BE-4BF7-85D0-41C45CCA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451-2780-4C53-A2C8-71E758AC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B63-64B6-492E-93FB-837A5006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845-CB95-44DF-9BE3-16B16B3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D38-273B-4749-80E7-469A0F3B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46F-B23C-4CD9-82DC-6AC8E0F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B583-4E5F-4512-86CE-2E3D4A44F2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43280" y="100008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19065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4929120" y="1855800"/>
            <a:ext cx="321480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4427640" y="2565360"/>
            <a:ext cx="57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069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62125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9265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640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3549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4265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855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997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854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7:40:52Z</dcterms:modified>
  <cp:revision>1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