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FD7-2658-4351-8C20-4E189E06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541-1082-4E52-A905-7A3D656A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14E-261F-450C-A1BF-ED7CE828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96C-7EC7-45E8-9424-2DBAACCF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D18-4C3E-438A-BCC5-54EA3DE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258-0321-41EB-84BD-BB414126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5A2-E789-4FE3-BB31-6565808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81D-65E5-44CC-9071-8EAC9E83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C69-79F8-428C-8FA3-45262C8C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8F5-314B-4F22-A93D-F0300F2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4DB-0B16-4614-91DF-204DCF4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4E5-DC86-4F10-B9FD-B0A19B8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F381-DD6A-4320-AC63-FF6D4CAB42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707200" y="950760"/>
            <a:ext cx="7902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3414600" y="879480"/>
            <a:ext cx="1003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李旭科书法"/>
                <a:ea typeface="李旭科书法"/>
              </a:rPr>
              <a:t>中国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419640" y="313992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9978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8613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500720" y="3571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105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2008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272480" y="363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008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72480" y="456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57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8:54:1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