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27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02C-2F8A-4C2B-9603-39B6E329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5C7F-1F1D-4AC4-893B-EE8ACC2F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4DBD-945E-45B5-BF1F-945C227A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00A-50AF-4DB6-98EB-313F8E32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540A-53CB-4D2C-91E6-CE9F581B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411D-F4D9-481C-846E-5987C451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F71C-680E-4002-86E8-6629A6CD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FD3D-1E22-4959-9737-BDF98AC3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4092-1136-400D-AF8C-C3A7826C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152B-DFE9-4C9D-80B3-775C2017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75CB-2F7F-4AFE-B09C-F6F8A798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942-BE98-46E9-9E6D-548C59F5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024A-D465-45D8-AE3D-1E44DBD7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FF77-31A6-43D8-89D9-48A2766B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8481-5805-48ED-A98C-EBF961C9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D581-F498-48D6-AC7D-82F38C6F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E248-7783-4A11-AEDB-5ACF9C9D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3634-3E54-4F1D-B460-6AEDAEEE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895B-163F-4191-8BD9-6B8BF4B8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6E22-F89F-4387-BBD9-C77C6A19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080-57DB-4290-97F4-128296FA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6A15-A275-4AEB-BDC6-729ED610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7CE6-72BE-4B7E-A0F2-7277FB11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ED3-E3BB-4CA7-B687-02E2503C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F71B-7E61-4B9E-A89A-0C777BEC209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A7F0-4DED-43C7-98DC-665485FFCEB8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hyperlink" Target="258,3,&#24187;&#28783;&#29255; 3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71,4,&#24187;&#28783;&#29255; 4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73,6,&#24187;&#28783;&#29255; 6" TargetMode="External"/><Relationship Id="rId5" Type="http://schemas.openxmlformats.org/officeDocument/2006/relationships/hyperlink" Target="259,8,&#24187;&#28783;&#29255; 8" TargetMode="External"/><Relationship Id="rId6" Type="http://schemas.openxmlformats.org/officeDocument/2006/relationships/hyperlink" Target="262,10,&#24187;&#28783;&#29255; 10" TargetMode="External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hyperlink" Target="275,12,&#24187;&#28783;&#29255; 12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169" descr=""/>
          <p:cNvPicPr/>
          <p:nvPr/>
        </p:nvPicPr>
        <p:blipFill>
          <a:blip r:embed="rId1"/>
          <a:srcRect l="0" t="13872" r="0" b="11518"/>
          <a:stretch/>
        </p:blipFill>
        <p:spPr>
          <a:xfrm>
            <a:off x="1908000" y="333360"/>
            <a:ext cx="5688360" cy="60483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170" descr=""/>
          <p:cNvPicPr/>
          <p:nvPr/>
        </p:nvPicPr>
        <p:blipFill>
          <a:blip r:embed="rId2"/>
          <a:srcRect l="0" t="0" r="64062" b="85002"/>
          <a:stretch/>
        </p:blipFill>
        <p:spPr>
          <a:xfrm>
            <a:off x="38160" y="0"/>
            <a:ext cx="2577960" cy="1614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3429000"/>
            <a:ext cx="777240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剪纸</a:t>
            </a:r>
            <a:r>
              <a:rPr b="0" lang="en-US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-</a:t>
            </a:r>
            <a:r>
              <a:rPr b="0" lang="zh-CN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艺术简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611280" y="3063960"/>
            <a:ext cx="61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内容占位符 24577" descr="baxianjianzhi03t_副本"/>
          <p:cNvPicPr/>
          <p:nvPr/>
        </p:nvPicPr>
        <p:blipFill>
          <a:blip r:embed="rId1"/>
          <a:stretch/>
        </p:blipFill>
        <p:spPr>
          <a:xfrm>
            <a:off x="466560" y="695160"/>
            <a:ext cx="8210880" cy="53276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4578" descr="cad4291e28e0f725ff32238d67_5602_副本"/>
          <p:cNvPicPr/>
          <p:nvPr/>
        </p:nvPicPr>
        <p:blipFill>
          <a:blip r:embed="rId2"/>
          <a:stretch/>
        </p:blipFill>
        <p:spPr>
          <a:xfrm>
            <a:off x="9180360" y="5388120"/>
            <a:ext cx="1231920" cy="126972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4579" descr="cad4291e28e0f725ff32238d67_5602_副本"/>
          <p:cNvPicPr/>
          <p:nvPr/>
        </p:nvPicPr>
        <p:blipFill>
          <a:blip r:embed="rId3"/>
          <a:stretch/>
        </p:blipFill>
        <p:spPr>
          <a:xfrm>
            <a:off x="-1324080" y="60480"/>
            <a:ext cx="1231920" cy="126972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24580"/>
          <p:cNvSpPr/>
          <p:nvPr/>
        </p:nvSpPr>
        <p:spPr>
          <a:xfrm>
            <a:off x="6420600" y="29844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Vid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24581" descr="4_副本_副本"/>
          <p:cNvPicPr/>
          <p:nvPr/>
        </p:nvPicPr>
        <p:blipFill>
          <a:blip r:embed="rId4"/>
          <a:stretch/>
        </p:blipFill>
        <p:spPr>
          <a:xfrm>
            <a:off x="5508720" y="2665440"/>
            <a:ext cx="1293840" cy="126828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24582"/>
          <p:cNvSpPr/>
          <p:nvPr/>
        </p:nvSpPr>
        <p:spPr>
          <a:xfrm>
            <a:off x="7169040" y="60228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5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72153 -0.00037 E">
                                      <p:cBhvr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7222 -0.000185 E">
                                      <p:cBhvr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6625" descr="baxianjianzhi01t_副本1_副本"/>
          <p:cNvPicPr/>
          <p:nvPr/>
        </p:nvPicPr>
        <p:blipFill>
          <a:blip r:embed="rId1"/>
          <a:srcRect l="0" t="0" r="0" b="95707"/>
          <a:stretch/>
        </p:blipFill>
        <p:spPr>
          <a:xfrm>
            <a:off x="181080" y="620640"/>
            <a:ext cx="8640720" cy="2444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6626" descr="2007919151255477_副本"/>
          <p:cNvPicPr/>
          <p:nvPr/>
        </p:nvPicPr>
        <p:blipFill>
          <a:blip r:embed="rId2"/>
          <a:stretch/>
        </p:blipFill>
        <p:spPr>
          <a:xfrm>
            <a:off x="-2187720" y="1628640"/>
            <a:ext cx="2151360" cy="38880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26627" descr="2007919151255477_副本1"/>
          <p:cNvPicPr/>
          <p:nvPr/>
        </p:nvPicPr>
        <p:blipFill>
          <a:blip r:embed="rId3"/>
          <a:stretch/>
        </p:blipFill>
        <p:spPr>
          <a:xfrm>
            <a:off x="9180360" y="1628640"/>
            <a:ext cx="2121120" cy="388800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26628"/>
          <p:cNvSpPr/>
          <p:nvPr/>
        </p:nvSpPr>
        <p:spPr>
          <a:xfrm>
            <a:off x="2916360" y="235584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谢谢聆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6629"/>
          <p:cNvSpPr/>
          <p:nvPr/>
        </p:nvSpPr>
        <p:spPr>
          <a:xfrm>
            <a:off x="3959280" y="346716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ahoma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26630" descr="baxianjianzhi01t_副本1_副本"/>
          <p:cNvPicPr/>
          <p:nvPr/>
        </p:nvPicPr>
        <p:blipFill>
          <a:blip r:embed="rId4"/>
          <a:srcRect l="0" t="94658" r="0" b="0"/>
          <a:stretch/>
        </p:blipFill>
        <p:spPr>
          <a:xfrm>
            <a:off x="181080" y="5989680"/>
            <a:ext cx="864072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417 9.3E-005 L 0.331111 9.3E-005 E">
                                      <p:cBhvr>
                                        <p:cTn id="235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2847 9.3E-005 E">
                                      <p:cBhvr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149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57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9217" descr="baxianjianzhi01t_副本1_副本"/>
          <p:cNvPicPr/>
          <p:nvPr/>
        </p:nvPicPr>
        <p:blipFill>
          <a:blip r:embed="rId1"/>
          <a:stretch/>
        </p:blipFill>
        <p:spPr>
          <a:xfrm>
            <a:off x="182520" y="1101600"/>
            <a:ext cx="8640720" cy="470376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9218"/>
          <p:cNvSpPr/>
          <p:nvPr/>
        </p:nvSpPr>
        <p:spPr>
          <a:xfrm>
            <a:off x="1406520" y="1878120"/>
            <a:ext cx="3384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2"/>
              </a:rPr>
              <a:t>发展历史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3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219"/>
          <p:cNvSpPr/>
          <p:nvPr/>
        </p:nvSpPr>
        <p:spPr>
          <a:xfrm>
            <a:off x="2197080" y="2778120"/>
            <a:ext cx="2808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4"/>
              </a:rPr>
              <a:t>史籍记载</a:t>
            </a:r>
            <a:r>
              <a:rPr b="0" lang="zh-CN" sz="44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9220"/>
          <p:cNvSpPr/>
          <p:nvPr/>
        </p:nvSpPr>
        <p:spPr>
          <a:xfrm>
            <a:off x="3338640" y="3649680"/>
            <a:ext cx="28270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2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5"/>
              </a:rPr>
              <a:t>创作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9221"/>
          <p:cNvSpPr/>
          <p:nvPr/>
        </p:nvSpPr>
        <p:spPr>
          <a:xfrm>
            <a:off x="4545000" y="4305240"/>
            <a:ext cx="33606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2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6"/>
              </a:rPr>
              <a:t>视频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9222" descr="cad4291e28e0f725ff32238d67_560_本"/>
          <p:cNvPicPr/>
          <p:nvPr/>
        </p:nvPicPr>
        <p:blipFill>
          <a:blip r:embed="rId7"/>
          <a:stretch/>
        </p:blipFill>
        <p:spPr>
          <a:xfrm>
            <a:off x="9144000" y="92160"/>
            <a:ext cx="1282680" cy="1295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9223" descr="cad4291e28e0f725ff32238d67_560_本"/>
          <p:cNvPicPr/>
          <p:nvPr/>
        </p:nvPicPr>
        <p:blipFill>
          <a:blip r:embed="rId8"/>
          <a:stretch/>
        </p:blipFill>
        <p:spPr>
          <a:xfrm>
            <a:off x="-1249200" y="515772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9224"/>
          <p:cNvSpPr/>
          <p:nvPr/>
        </p:nvSpPr>
        <p:spPr>
          <a:xfrm>
            <a:off x="1301760" y="404640"/>
            <a:ext cx="135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9225"/>
          <p:cNvSpPr/>
          <p:nvPr/>
        </p:nvSpPr>
        <p:spPr>
          <a:xfrm>
            <a:off x="2198520" y="7398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中山行书百年纪念版"/>
              </a:rPr>
              <a:t>  </a:t>
            </a:r>
            <a:r>
              <a:rPr b="1" lang="zh-CN" sz="1800" spc="-1" strike="noStrike">
                <a:solidFill>
                  <a:srgbClr val="808080"/>
                </a:solidFill>
                <a:latin typeface="Tahoma"/>
                <a:ea typeface="中山行书百年纪念版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9226"/>
          <p:cNvSpPr/>
          <p:nvPr/>
        </p:nvSpPr>
        <p:spPr>
          <a:xfrm>
            <a:off x="6732720" y="5805360"/>
            <a:ext cx="1276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9"/>
              </a:rPr>
              <a:t>末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972 0.010463 L -0.995347 0.014167 E">
                                      <p:cBhvr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4792 -9.3E-005 E">
                                      <p:cBhvr>
                                        <p:cTn id="3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内容占位符 11265" descr="baxianjianzhi02t_副本2"/>
          <p:cNvPicPr/>
          <p:nvPr/>
        </p:nvPicPr>
        <p:blipFill>
          <a:blip r:embed="rId1"/>
          <a:stretch/>
        </p:blipFill>
        <p:spPr>
          <a:xfrm>
            <a:off x="449280" y="907920"/>
            <a:ext cx="8229600" cy="5042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0" y="1353600"/>
            <a:ext cx="388944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内容占位符 11267" descr="cad4291e28e0f725ff32238d67_560_副本1"/>
          <p:cNvPicPr/>
          <p:nvPr/>
        </p:nvPicPr>
        <p:blipFill>
          <a:blip r:embed="rId2"/>
          <a:stretch/>
        </p:blipFill>
        <p:spPr>
          <a:xfrm>
            <a:off x="9144000" y="84240"/>
            <a:ext cx="1206360" cy="1269720"/>
          </a:xfrm>
          <a:prstGeom prst="rect">
            <a:avLst/>
          </a:prstGeom>
          <a:ln w="0">
            <a:noFill/>
          </a:ln>
        </p:spPr>
      </p:pic>
      <p:pic>
        <p:nvPicPr>
          <p:cNvPr id="99" name="内容占位符 11268" descr="cad4291e28e0f725ff32238d67_560_副本1"/>
          <p:cNvPicPr/>
          <p:nvPr/>
        </p:nvPicPr>
        <p:blipFill>
          <a:blip r:embed="rId3"/>
          <a:stretch/>
        </p:blipFill>
        <p:spPr>
          <a:xfrm>
            <a:off x="-1200240" y="5315040"/>
            <a:ext cx="1200240" cy="127008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11269"/>
          <p:cNvSpPr/>
          <p:nvPr/>
        </p:nvSpPr>
        <p:spPr>
          <a:xfrm>
            <a:off x="1663560" y="208080"/>
            <a:ext cx="290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发展历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1270"/>
          <p:cNvSpPr/>
          <p:nvPr/>
        </p:nvSpPr>
        <p:spPr>
          <a:xfrm>
            <a:off x="4564080" y="1444680"/>
            <a:ext cx="412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-0.003889 L -0.967569 -0.003889 E">
                                      <p:cBhvr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51875 -9.3E-005 E">
                                      <p:cBhvr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内容占位符 13313" descr="baxianjianzhi01t_1"/>
          <p:cNvPicPr/>
          <p:nvPr/>
        </p:nvPicPr>
        <p:blipFill>
          <a:blip r:embed="rId1"/>
          <a:stretch/>
        </p:blipFill>
        <p:spPr>
          <a:xfrm>
            <a:off x="466560" y="693720"/>
            <a:ext cx="8209080" cy="5183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284720" y="1054080"/>
            <a:ext cx="42098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内容占位符 13315" descr="cad4291e28e0f725ff32238d67_560_副本3"/>
          <p:cNvPicPr/>
          <p:nvPr/>
        </p:nvPicPr>
        <p:blipFill>
          <a:blip r:embed="rId2"/>
          <a:stretch/>
        </p:blipFill>
        <p:spPr>
          <a:xfrm>
            <a:off x="-1308240" y="98280"/>
            <a:ext cx="1295640" cy="1190880"/>
          </a:xfrm>
          <a:prstGeom prst="rect">
            <a:avLst/>
          </a:prstGeom>
          <a:ln w="0">
            <a:noFill/>
          </a:ln>
        </p:spPr>
      </p:pic>
      <p:pic>
        <p:nvPicPr>
          <p:cNvPr id="105" name="内容占位符 13316" descr="cad4291e28e0f725ff32238d67_560_副本3"/>
          <p:cNvPicPr/>
          <p:nvPr/>
        </p:nvPicPr>
        <p:blipFill>
          <a:blip r:embed="rId3"/>
          <a:stretch/>
        </p:blipFill>
        <p:spPr>
          <a:xfrm>
            <a:off x="9144000" y="52801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13317"/>
          <p:cNvSpPr/>
          <p:nvPr/>
        </p:nvSpPr>
        <p:spPr>
          <a:xfrm>
            <a:off x="4066920" y="281160"/>
            <a:ext cx="32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History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3318"/>
          <p:cNvSpPr/>
          <p:nvPr/>
        </p:nvSpPr>
        <p:spPr>
          <a:xfrm>
            <a:off x="6661080" y="5877000"/>
            <a:ext cx="2232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3319"/>
          <p:cNvSpPr/>
          <p:nvPr/>
        </p:nvSpPr>
        <p:spPr>
          <a:xfrm>
            <a:off x="4067280" y="1054080"/>
            <a:ext cx="412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6 0.010278 L 0.952986 0.010278 E">
                                      <p:cBhvr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64653 0.014722 E">
                                      <p:cBhvr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内容占位符 15361" descr="baxianjianzhi07t_副本"/>
          <p:cNvPicPr/>
          <p:nvPr/>
        </p:nvPicPr>
        <p:blipFill>
          <a:blip r:embed="rId1"/>
          <a:stretch/>
        </p:blipFill>
        <p:spPr>
          <a:xfrm>
            <a:off x="549360" y="961920"/>
            <a:ext cx="8137440" cy="5042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860720" y="1244520"/>
            <a:ext cx="382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内容占位符 15363" descr="cad4291e28e0f725ff32238d67_560_副本8"/>
          <p:cNvPicPr/>
          <p:nvPr/>
        </p:nvPicPr>
        <p:blipFill>
          <a:blip r:embed="rId2"/>
          <a:stretch/>
        </p:blipFill>
        <p:spPr>
          <a:xfrm>
            <a:off x="9144000" y="0"/>
            <a:ext cx="1244520" cy="1244520"/>
          </a:xfrm>
          <a:prstGeom prst="rect">
            <a:avLst/>
          </a:prstGeom>
          <a:ln w="0">
            <a:noFill/>
          </a:ln>
        </p:spPr>
      </p:pic>
      <p:pic>
        <p:nvPicPr>
          <p:cNvPr id="112" name="内容占位符 15364" descr="cad4291e28e0f725ff32238d67_560_副本8"/>
          <p:cNvPicPr/>
          <p:nvPr/>
        </p:nvPicPr>
        <p:blipFill>
          <a:blip r:embed="rId3"/>
          <a:stretch/>
        </p:blipFill>
        <p:spPr>
          <a:xfrm>
            <a:off x="-1238400" y="5381640"/>
            <a:ext cx="1238400" cy="124452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15365"/>
          <p:cNvSpPr/>
          <p:nvPr/>
        </p:nvSpPr>
        <p:spPr>
          <a:xfrm>
            <a:off x="1424160" y="260280"/>
            <a:ext cx="271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史籍记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775 -0.000185 E">
                                      <p:cBhvr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47778 -9.3E-005 E">
                                      <p:cBhvr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内容占位符 17409" descr="baxianjianzhi05t_副本"/>
          <p:cNvPicPr/>
          <p:nvPr/>
        </p:nvPicPr>
        <p:blipFill>
          <a:blip r:embed="rId1"/>
          <a:stretch/>
        </p:blipFill>
        <p:spPr>
          <a:xfrm>
            <a:off x="531720" y="693720"/>
            <a:ext cx="8210520" cy="5183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7116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内容占位符 17411" descr="2541252_165850689121_2_副本"/>
          <p:cNvPicPr/>
          <p:nvPr/>
        </p:nvPicPr>
        <p:blipFill>
          <a:blip r:embed="rId2"/>
          <a:stretch/>
        </p:blipFill>
        <p:spPr>
          <a:xfrm>
            <a:off x="-1290600" y="95400"/>
            <a:ext cx="1290600" cy="1198440"/>
          </a:xfrm>
          <a:prstGeom prst="rect">
            <a:avLst/>
          </a:prstGeom>
          <a:ln w="0">
            <a:noFill/>
          </a:ln>
        </p:spPr>
      </p:pic>
      <p:pic>
        <p:nvPicPr>
          <p:cNvPr id="117" name="内容占位符 17412" descr="2541252_165850689121_2_副本"/>
          <p:cNvPicPr/>
          <p:nvPr/>
        </p:nvPicPr>
        <p:blipFill>
          <a:blip r:embed="rId3"/>
          <a:stretch/>
        </p:blipFill>
        <p:spPr>
          <a:xfrm>
            <a:off x="9144000" y="5281560"/>
            <a:ext cx="1290600" cy="119232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17413"/>
          <p:cNvSpPr/>
          <p:nvPr/>
        </p:nvSpPr>
        <p:spPr>
          <a:xfrm>
            <a:off x="5023080" y="29700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Historical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7414"/>
          <p:cNvSpPr/>
          <p:nvPr/>
        </p:nvSpPr>
        <p:spPr>
          <a:xfrm>
            <a:off x="7097400" y="58770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8542 -0.000185 E">
                                      <p:cBhvr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2569 9.3E-005 E"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内容占位符 18433" descr="baxianjianzhi04t_副本"/>
          <p:cNvPicPr/>
          <p:nvPr/>
        </p:nvPicPr>
        <p:blipFill>
          <a:blip r:embed="rId1"/>
          <a:stretch/>
        </p:blipFill>
        <p:spPr>
          <a:xfrm>
            <a:off x="542880" y="907920"/>
            <a:ext cx="8210520" cy="4970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648320" y="1273320"/>
            <a:ext cx="40384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内容占位符 18435" descr="cad4291e28e0f725ff32238d67_560_副本3"/>
          <p:cNvPicPr/>
          <p:nvPr/>
        </p:nvPicPr>
        <p:blipFill>
          <a:blip r:embed="rId2"/>
          <a:stretch/>
        </p:blipFill>
        <p:spPr>
          <a:xfrm>
            <a:off x="9144000" y="117360"/>
            <a:ext cx="1257480" cy="1155960"/>
          </a:xfrm>
          <a:prstGeom prst="rect">
            <a:avLst/>
          </a:prstGeom>
          <a:ln w="0">
            <a:noFill/>
          </a:ln>
        </p:spPr>
      </p:pic>
      <p:pic>
        <p:nvPicPr>
          <p:cNvPr id="123" name="内容占位符 18436" descr="cad4291e28e0f725ff32238d67_560_副本3"/>
          <p:cNvPicPr/>
          <p:nvPr/>
        </p:nvPicPr>
        <p:blipFill>
          <a:blip r:embed="rId3"/>
          <a:stretch/>
        </p:blipFill>
        <p:spPr>
          <a:xfrm>
            <a:off x="-1251000" y="5300640"/>
            <a:ext cx="1251000" cy="115560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18437"/>
          <p:cNvSpPr/>
          <p:nvPr/>
        </p:nvSpPr>
        <p:spPr>
          <a:xfrm>
            <a:off x="1988280" y="20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创作流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8542 -0.00037 E">
                                      <p:cBhvr>
                                        <p:cTn id="146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2847 -0.000185 E">
                                      <p:cBhvr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内容占位符 20481" descr="baxianjianzhi08t_副本"/>
          <p:cNvPicPr/>
          <p:nvPr/>
        </p:nvPicPr>
        <p:blipFill>
          <a:blip r:embed="rId1"/>
          <a:stretch/>
        </p:blipFill>
        <p:spPr>
          <a:xfrm>
            <a:off x="542880" y="693720"/>
            <a:ext cx="8137440" cy="525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99528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内容占位符 20483" descr="cad4291e28e0f725ff32238d67_5601_副本"/>
          <p:cNvPicPr/>
          <p:nvPr/>
        </p:nvPicPr>
        <p:blipFill>
          <a:blip r:embed="rId2"/>
          <a:stretch/>
        </p:blipFill>
        <p:spPr>
          <a:xfrm>
            <a:off x="-1251000" y="39600"/>
            <a:ext cx="1251000" cy="1308240"/>
          </a:xfrm>
          <a:prstGeom prst="rect">
            <a:avLst/>
          </a:prstGeom>
          <a:ln w="0">
            <a:noFill/>
          </a:ln>
        </p:spPr>
      </p:pic>
      <p:pic>
        <p:nvPicPr>
          <p:cNvPr id="128" name="内容占位符 20484" descr="cad4291e28e0f725ff32238d67_5601_副本"/>
          <p:cNvPicPr/>
          <p:nvPr/>
        </p:nvPicPr>
        <p:blipFill>
          <a:blip r:embed="rId3"/>
          <a:stretch/>
        </p:blipFill>
        <p:spPr>
          <a:xfrm>
            <a:off x="9144000" y="5295960"/>
            <a:ext cx="1257480" cy="130788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20485"/>
          <p:cNvSpPr/>
          <p:nvPr/>
        </p:nvSpPr>
        <p:spPr>
          <a:xfrm>
            <a:off x="4933080" y="298440"/>
            <a:ext cx="23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0486"/>
          <p:cNvSpPr/>
          <p:nvPr/>
        </p:nvSpPr>
        <p:spPr>
          <a:xfrm>
            <a:off x="7035480" y="596412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2847 -0.000185 E">
                                      <p:cBhvr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8611 -9.3E-005 E">
                                      <p:cBhvr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内容占位符 22529" descr="baxianjianzhi06t_副本"/>
          <p:cNvPicPr/>
          <p:nvPr/>
        </p:nvPicPr>
        <p:blipFill>
          <a:blip r:embed="rId1"/>
          <a:stretch/>
        </p:blipFill>
        <p:spPr>
          <a:xfrm>
            <a:off x="468360" y="907920"/>
            <a:ext cx="8209080" cy="50421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2530" descr="2541252_165850689121_2_副本1"/>
          <p:cNvPicPr/>
          <p:nvPr/>
        </p:nvPicPr>
        <p:blipFill>
          <a:blip r:embed="rId2"/>
          <a:stretch/>
        </p:blipFill>
        <p:spPr>
          <a:xfrm>
            <a:off x="9144000" y="88920"/>
            <a:ext cx="1298520" cy="12096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2531" descr="2541252_165850689121_2_副本1"/>
          <p:cNvPicPr/>
          <p:nvPr/>
        </p:nvPicPr>
        <p:blipFill>
          <a:blip r:embed="rId3"/>
          <a:stretch/>
        </p:blipFill>
        <p:spPr>
          <a:xfrm>
            <a:off x="-1325520" y="5345280"/>
            <a:ext cx="1298520" cy="120960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22532"/>
          <p:cNvSpPr/>
          <p:nvPr/>
        </p:nvSpPr>
        <p:spPr>
          <a:xfrm>
            <a:off x="2215440" y="20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视频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22533" descr="4_副本_副本"/>
          <p:cNvPicPr/>
          <p:nvPr/>
        </p:nvPicPr>
        <p:blipFill>
          <a:blip r:embed="rId4"/>
          <a:stretch/>
        </p:blipFill>
        <p:spPr>
          <a:xfrm>
            <a:off x="5508720" y="2665440"/>
            <a:ext cx="12938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597 -9.3E-005 L 0.974514 -9.3E-005 E">
                                      <p:cBhvr>
                                        <p:cTn id="184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58 -9.3E-005 L -0.964653 -9.3E-005 E">
                                      <p:cBhvr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04-10T07:59:10Z</dcterms:modified>
  <cp:revision>8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