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B5BD-B8F3-4D6F-A62B-FC7D208D8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1319-550D-40DD-BE29-654EC494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44E5-B937-49F0-B554-274C6506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38DF-2193-43F1-802F-45B1BA4F5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71BB-0CAF-4E92-8693-861AF686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A289-A130-46AC-8D61-8C4554C2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C2A4-01DF-4713-9517-74B6CD62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A832-A911-4A7D-A430-FC62CFCE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FF78-AF5D-451A-BD53-E89EFF4A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CD96-55CC-4703-8B73-3FD7B91D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AC7B-84B1-409A-9C7F-8E1CE381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9136-743E-4835-A126-8DBC3CEE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tenci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Stencil"/>
                <a:ea typeface="华康俪金黑W8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B0A3-1CB8-4070-A4BF-7396226FBF5F}" type="datetime">
              <a:rPr b="0" lang="zh-CN" sz="1200" spc="-1" strike="noStrike">
                <a:solidFill>
                  <a:srgbClr val="898989"/>
                </a:solidFill>
                <a:latin typeface="Stencil"/>
                <a:ea typeface="华康俪金黑W8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Stencil"/>
                <a:ea typeface="华康俪金黑W8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F1CA-8631-4616-957D-E1103E1226F7}" type="slidenum">
              <a:rPr b="0" lang="zh-CN" sz="1200" spc="-1" strike="noStrike">
                <a:solidFill>
                  <a:srgbClr val="898989"/>
                </a:solidFill>
                <a:latin typeface="Stencil"/>
                <a:ea typeface="华康俪金黑W8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76320" y="2928960"/>
            <a:ext cx="2703600" cy="276228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16"/>
          <p:cNvGrpSpPr/>
          <p:nvPr/>
        </p:nvGrpSpPr>
        <p:grpSpPr>
          <a:xfrm>
            <a:off x="6979680" y="547920"/>
            <a:ext cx="1264320" cy="3086640"/>
            <a:chOff x="6979680" y="547920"/>
            <a:chExt cx="1264320" cy="3086640"/>
          </a:xfrm>
        </p:grpSpPr>
        <p:sp>
          <p:nvSpPr>
            <p:cNvPr id="43" name="TextBox 1"/>
            <p:cNvSpPr/>
            <p:nvPr/>
          </p:nvSpPr>
          <p:spPr>
            <a:xfrm>
              <a:off x="7482240" y="554040"/>
              <a:ext cx="761760" cy="30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900" spc="-1" strike="noStrike">
                  <a:solidFill>
                    <a:srgbClr val="2d1410"/>
                  </a:solidFill>
                  <a:latin typeface="华康俪金黑W8"/>
                </a:rPr>
                <a:t>苏东坡传</a:t>
              </a:r>
              <a:endParaRPr b="0" lang="en-US" sz="49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44" name="矩形 2"/>
            <p:cNvSpPr/>
            <p:nvPr/>
          </p:nvSpPr>
          <p:spPr>
            <a:xfrm rot="5400000">
              <a:off x="6001200" y="1526040"/>
              <a:ext cx="24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1410"/>
                  </a:solidFill>
                  <a:latin typeface="Bell MT"/>
                  <a:ea typeface="BatangChe"/>
                </a:rPr>
                <a:t>The Gay Genius</a:t>
              </a:r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grpSp>
        <p:nvGrpSpPr>
          <p:cNvPr id="45" name="组合 15"/>
          <p:cNvGrpSpPr/>
          <p:nvPr/>
        </p:nvGrpSpPr>
        <p:grpSpPr>
          <a:xfrm>
            <a:off x="4299120" y="1778040"/>
            <a:ext cx="560160" cy="3209400"/>
            <a:chOff x="4299120" y="1778040"/>
            <a:chExt cx="560160" cy="3209400"/>
          </a:xfrm>
        </p:grpSpPr>
        <p:sp>
          <p:nvSpPr>
            <p:cNvPr id="46" name="TextBox 3"/>
            <p:cNvSpPr/>
            <p:nvPr/>
          </p:nvSpPr>
          <p:spPr>
            <a:xfrm>
              <a:off x="4299120" y="1778040"/>
              <a:ext cx="5601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d1410"/>
                  </a:solidFill>
                  <a:latin typeface="华文仿宋"/>
                  <a:ea typeface="华文仿宋"/>
                </a:rPr>
                <a:t>林语堂</a:t>
              </a:r>
              <a:endParaRPr b="0" lang="en-US" sz="32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47" name="矩形 6"/>
            <p:cNvSpPr/>
            <p:nvPr/>
          </p:nvSpPr>
          <p:spPr>
            <a:xfrm>
              <a:off x="4460040" y="3341880"/>
              <a:ext cx="237960" cy="16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2d1410"/>
                  </a:solidFill>
                  <a:latin typeface="华文仿宋"/>
                  <a:ea typeface="华文仿宋"/>
                </a:rPr>
                <a:t>著</a:t>
              </a:r>
              <a:endParaRPr b="0" lang="en-US" sz="1600" spc="-1" strike="noStrike">
                <a:solidFill>
                  <a:srgbClr val="000000"/>
                </a:solidFill>
                <a:latin typeface="Stenci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Stenci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2d1410"/>
                  </a:solidFill>
                  <a:latin typeface="华文仿宋"/>
                  <a:ea typeface="华文仿宋"/>
                </a:rPr>
                <a:t>张振玉</a:t>
              </a:r>
              <a:endParaRPr b="0" lang="en-US" sz="1600" spc="-1" strike="noStrike">
                <a:solidFill>
                  <a:srgbClr val="000000"/>
                </a:solidFill>
                <a:latin typeface="Stenci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Stenci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2d1410"/>
                  </a:solidFill>
                  <a:latin typeface="华文仿宋"/>
                  <a:ea typeface="华文仿宋"/>
                </a:rPr>
                <a:t>译</a:t>
              </a:r>
              <a:endParaRPr b="0" lang="en-US" sz="16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sp>
        <p:nvSpPr>
          <p:cNvPr id="48" name="文本框 1"/>
          <p:cNvSpPr/>
          <p:nvPr/>
        </p:nvSpPr>
        <p:spPr>
          <a:xfrm>
            <a:off x="3348000" y="1417680"/>
            <a:ext cx="47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tencil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Stencil"/>
              </a:rPr>
              <a:t>- www.zhongguofeng.com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组合 3"/>
          <p:cNvGrpSpPr/>
          <p:nvPr/>
        </p:nvGrpSpPr>
        <p:grpSpPr>
          <a:xfrm>
            <a:off x="2081520" y="1319760"/>
            <a:ext cx="4511880" cy="3974400"/>
            <a:chOff x="2081520" y="1319760"/>
            <a:chExt cx="4511880" cy="3974400"/>
          </a:xfrm>
        </p:grpSpPr>
        <p:grpSp>
          <p:nvGrpSpPr>
            <p:cNvPr id="145" name="组合 4"/>
            <p:cNvGrpSpPr/>
            <p:nvPr/>
          </p:nvGrpSpPr>
          <p:grpSpPr>
            <a:xfrm>
              <a:off x="2081520" y="1319760"/>
              <a:ext cx="4511880" cy="3974400"/>
              <a:chOff x="2081520" y="1319760"/>
              <a:chExt cx="4511880" cy="3974400"/>
            </a:xfrm>
          </p:grpSpPr>
          <p:pic>
            <p:nvPicPr>
              <p:cNvPr id="146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705040" y="1488960"/>
                <a:ext cx="3750120" cy="380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Box 7"/>
              <p:cNvSpPr/>
              <p:nvPr/>
            </p:nvSpPr>
            <p:spPr>
              <a:xfrm rot="1140000">
                <a:off x="2824560" y="3908520"/>
                <a:ext cx="125460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豁达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天成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</p:txBody>
          </p:sp>
          <p:sp>
            <p:nvSpPr>
              <p:cNvPr id="148" name="TextBox 8"/>
              <p:cNvSpPr/>
              <p:nvPr/>
            </p:nvSpPr>
            <p:spPr>
              <a:xfrm rot="1123800">
                <a:off x="3994200" y="1837440"/>
                <a:ext cx="24091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作品给人  带来快乐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</p:txBody>
          </p:sp>
          <p:sp>
            <p:nvSpPr>
              <p:cNvPr id="149" name="TextBox 9"/>
              <p:cNvSpPr/>
              <p:nvPr/>
            </p:nvSpPr>
            <p:spPr>
              <a:xfrm rot="21540000">
                <a:off x="5660640" y="256356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d1410"/>
                    </a:solidFill>
                    <a:latin typeface="华康俪金黑W8"/>
                  </a:rPr>
                  <a:t>坚持己见</a:t>
                </a:r>
                <a:endParaRPr b="0" lang="en-US" sz="1800" spc="-1" strike="noStrike">
                  <a:solidFill>
                    <a:srgbClr val="000000"/>
                  </a:solidFill>
                  <a:latin typeface="Stencil"/>
                </a:endParaRPr>
              </a:p>
            </p:txBody>
          </p:sp>
          <p:sp>
            <p:nvSpPr>
              <p:cNvPr id="150" name="TextBox 10"/>
              <p:cNvSpPr/>
              <p:nvPr/>
            </p:nvSpPr>
            <p:spPr>
              <a:xfrm rot="1140000">
                <a:off x="2185560" y="2684880"/>
                <a:ext cx="3114000" cy="11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人格上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的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刚正不阿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</p:txBody>
          </p:sp>
          <p:sp>
            <p:nvSpPr>
              <p:cNvPr id="151" name="TextBox 11"/>
              <p:cNvSpPr/>
              <p:nvPr/>
            </p:nvSpPr>
            <p:spPr>
              <a:xfrm rot="21540000">
                <a:off x="5662440" y="3726720"/>
                <a:ext cx="65952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平易近人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</p:txBody>
          </p:sp>
          <p:sp>
            <p:nvSpPr>
              <p:cNvPr id="152" name="矩形 12"/>
              <p:cNvSpPr/>
              <p:nvPr/>
            </p:nvSpPr>
            <p:spPr>
              <a:xfrm rot="1020000">
                <a:off x="3962520" y="4155480"/>
                <a:ext cx="43992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宠辱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不惊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</p:txBody>
          </p:sp>
          <p:sp>
            <p:nvSpPr>
              <p:cNvPr id="153" name="矩形 13"/>
              <p:cNvSpPr/>
              <p:nvPr/>
            </p:nvSpPr>
            <p:spPr>
              <a:xfrm rot="1140000">
                <a:off x="2051280" y="2048040"/>
                <a:ext cx="4572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2d1410"/>
                    </a:solidFill>
                    <a:latin typeface="华康俪金黑W8"/>
                  </a:rPr>
                  <a:t>诗文书画艺术上的</a:t>
                </a:r>
                <a:endParaRPr b="0" lang="en-US" sz="1600" spc="-1" strike="noStrike">
                  <a:solidFill>
                    <a:srgbClr val="000000"/>
                  </a:solidFill>
                  <a:latin typeface="Stenci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2d1410"/>
                    </a:solidFill>
                    <a:latin typeface="华康俪金黑W8"/>
                  </a:rPr>
                  <a:t>卓绝之美</a:t>
                </a:r>
                <a:endParaRPr b="0" lang="en-US" sz="1600" spc="-1" strike="noStrike">
                  <a:solidFill>
                    <a:srgbClr val="000000"/>
                  </a:solidFill>
                  <a:latin typeface="Stencil"/>
                </a:endParaRPr>
              </a:p>
            </p:txBody>
          </p:sp>
          <p:sp>
            <p:nvSpPr>
              <p:cNvPr id="154" name="TextBox 14"/>
              <p:cNvSpPr/>
              <p:nvPr/>
            </p:nvSpPr>
            <p:spPr>
              <a:xfrm rot="21540000">
                <a:off x="4785480" y="289368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d1410"/>
                    </a:solidFill>
                    <a:latin typeface="华康俪金黑W8"/>
                  </a:rPr>
                  <a:t>无所畏惧</a:t>
                </a:r>
                <a:endParaRPr b="0" lang="en-US" sz="1800" spc="-1" strike="noStrike">
                  <a:solidFill>
                    <a:srgbClr val="000000"/>
                  </a:solidFill>
                  <a:latin typeface="Stencil"/>
                </a:endParaRPr>
              </a:p>
            </p:txBody>
          </p:sp>
        </p:grpSp>
        <p:sp>
          <p:nvSpPr>
            <p:cNvPr id="155" name="TextBox 5"/>
            <p:cNvSpPr/>
            <p:nvPr/>
          </p:nvSpPr>
          <p:spPr>
            <a:xfrm rot="21540000">
              <a:off x="4820760" y="40878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d1410"/>
                  </a:solidFill>
                  <a:latin typeface="华康俪金黑W8"/>
                </a:rPr>
                <a:t>浩然正气</a:t>
              </a:r>
              <a:endParaRPr b="0" lang="en-US" sz="18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sp>
        <p:nvSpPr>
          <p:cNvPr id="156" name="TextBox 1"/>
          <p:cNvSpPr/>
          <p:nvPr/>
        </p:nvSpPr>
        <p:spPr>
          <a:xfrm>
            <a:off x="5398920" y="366840"/>
            <a:ext cx="36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Stencil"/>
              </a:rPr>
              <a:t>苏东坡魔方矢量图</a:t>
            </a:r>
            <a:endParaRPr b="0" lang="en-US" sz="28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椭圆 20"/>
          <p:cNvSpPr/>
          <p:nvPr/>
        </p:nvSpPr>
        <p:spPr>
          <a:xfrm>
            <a:off x="4716360" y="1778040"/>
            <a:ext cx="2159280" cy="2158920"/>
          </a:xfrm>
          <a:prstGeom prst="ellipse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2d1410"/>
                </a:solidFill>
                <a:latin typeface="微软雅黑"/>
                <a:ea typeface="微软雅黑"/>
              </a:rPr>
              <a:t>谢谢</a:t>
            </a:r>
            <a:endParaRPr b="0" lang="en-US" sz="21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58" name="椭圆 6"/>
          <p:cNvSpPr/>
          <p:nvPr/>
        </p:nvSpPr>
        <p:spPr>
          <a:xfrm>
            <a:off x="1979640" y="1417680"/>
            <a:ext cx="2879640" cy="287964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59" name="TextBox 7"/>
          <p:cNvSpPr/>
          <p:nvPr/>
        </p:nvSpPr>
        <p:spPr>
          <a:xfrm>
            <a:off x="1692360" y="2925720"/>
            <a:ext cx="1727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cebb5"/>
                </a:solidFill>
                <a:latin typeface="微软雅黑"/>
                <a:ea typeface="微软雅黑"/>
              </a:rPr>
              <a:t>思想的欢乐</a:t>
            </a:r>
            <a:endParaRPr b="0" lang="en-US" sz="13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3419640" y="2925720"/>
            <a:ext cx="1439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d1410"/>
                </a:solidFill>
                <a:latin typeface="微软雅黑"/>
                <a:ea typeface="微软雅黑"/>
              </a:rPr>
              <a:t>心灵的喜悦</a:t>
            </a:r>
            <a:endParaRPr b="0" lang="en-US" sz="13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61" name="TextBox 8"/>
          <p:cNvSpPr/>
          <p:nvPr/>
        </p:nvSpPr>
        <p:spPr>
          <a:xfrm>
            <a:off x="826920" y="2441520"/>
            <a:ext cx="51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1410"/>
                </a:solidFill>
                <a:latin typeface="微软雅黑"/>
                <a:ea typeface="微软雅黑"/>
              </a:rPr>
              <a:t>他们都给我们带来了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62" name="直接连接符 3"/>
          <p:cNvSpPr/>
          <p:nvPr/>
        </p:nvSpPr>
        <p:spPr>
          <a:xfrm>
            <a:off x="2138400" y="2879640"/>
            <a:ext cx="2519280" cy="0"/>
          </a:xfrm>
          <a:prstGeom prst="line">
            <a:avLst/>
          </a:prstGeom>
          <a:ln w="6480">
            <a:solidFill>
              <a:srgbClr val="eceb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组合 20"/>
          <p:cNvGrpSpPr/>
          <p:nvPr/>
        </p:nvGrpSpPr>
        <p:grpSpPr>
          <a:xfrm>
            <a:off x="0" y="2247840"/>
            <a:ext cx="9144000" cy="857160"/>
            <a:chOff x="0" y="2247840"/>
            <a:chExt cx="9144000" cy="857160"/>
          </a:xfrm>
        </p:grpSpPr>
        <p:sp>
          <p:nvSpPr>
            <p:cNvPr id="164" name="矩形 15"/>
            <p:cNvSpPr/>
            <p:nvPr/>
          </p:nvSpPr>
          <p:spPr>
            <a:xfrm>
              <a:off x="311040" y="224784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165" name="矩形 8"/>
            <p:cNvSpPr/>
            <p:nvPr/>
          </p:nvSpPr>
          <p:spPr>
            <a:xfrm>
              <a:off x="1346400" y="259452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166" name="矩形 33"/>
            <p:cNvSpPr/>
            <p:nvPr/>
          </p:nvSpPr>
          <p:spPr>
            <a:xfrm>
              <a:off x="0" y="224784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pic>
        <p:nvPicPr>
          <p:cNvPr id="167" name="图片 25" descr=""/>
          <p:cNvPicPr/>
          <p:nvPr/>
        </p:nvPicPr>
        <p:blipFill>
          <a:blip r:embed="rId1"/>
          <a:stretch/>
        </p:blipFill>
        <p:spPr>
          <a:xfrm>
            <a:off x="0" y="85716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181440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7" descr=""/>
          <p:cNvPicPr/>
          <p:nvPr/>
        </p:nvPicPr>
        <p:blipFill>
          <a:blip r:embed="rId3"/>
          <a:stretch/>
        </p:blipFill>
        <p:spPr>
          <a:xfrm>
            <a:off x="7059600" y="722160"/>
            <a:ext cx="1085760" cy="125280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53" descr=""/>
          <p:cNvPicPr/>
          <p:nvPr/>
        </p:nvPicPr>
        <p:blipFill>
          <a:blip r:embed="rId4"/>
          <a:stretch/>
        </p:blipFill>
        <p:spPr>
          <a:xfrm>
            <a:off x="7658280" y="1109520"/>
            <a:ext cx="1333440" cy="153540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13660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172" name="矩形 30"/>
          <p:cNvSpPr/>
          <p:nvPr/>
        </p:nvSpPr>
        <p:spPr>
          <a:xfrm>
            <a:off x="1610640" y="118908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1258920" y="1563840"/>
            <a:ext cx="3274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74" name="文本框 2"/>
          <p:cNvSpPr/>
          <p:nvPr/>
        </p:nvSpPr>
        <p:spPr>
          <a:xfrm>
            <a:off x="3905280" y="156996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Stencil"/>
            </a:endParaRPr>
          </a:p>
        </p:txBody>
      </p:sp>
      <p:pic>
        <p:nvPicPr>
          <p:cNvPr id="175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139920"/>
            <a:ext cx="1150920" cy="473400"/>
          </a:xfrm>
          <a:prstGeom prst="rect">
            <a:avLst/>
          </a:prstGeom>
          <a:ln w="0">
            <a:noFill/>
          </a:ln>
        </p:spPr>
      </p:pic>
      <p:sp>
        <p:nvSpPr>
          <p:cNvPr id="176" name="文本框 5"/>
          <p:cNvSpPr/>
          <p:nvPr/>
        </p:nvSpPr>
        <p:spPr>
          <a:xfrm>
            <a:off x="68400" y="369900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77" name="文本框 9"/>
          <p:cNvSpPr/>
          <p:nvPr/>
        </p:nvSpPr>
        <p:spPr>
          <a:xfrm>
            <a:off x="2436840" y="369900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7"/>
          <p:cNvSpPr/>
          <p:nvPr/>
        </p:nvSpPr>
        <p:spPr>
          <a:xfrm>
            <a:off x="539640" y="2425680"/>
            <a:ext cx="1440000" cy="187164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</a:rPr>
              <a:t>林语堂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d8b67"/>
                </a:solidFill>
                <a:latin typeface="华康俪金黑W8"/>
              </a:rPr>
              <a:t>为何写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</a:rPr>
              <a:t>苏东坡传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0" name="矩形 11"/>
          <p:cNvSpPr/>
          <p:nvPr/>
        </p:nvSpPr>
        <p:spPr>
          <a:xfrm>
            <a:off x="2700360" y="2425680"/>
            <a:ext cx="1440000" cy="187164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</a:rPr>
              <a:t>林语堂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d8b67"/>
                </a:solidFill>
                <a:latin typeface="华康俪金黑W8"/>
              </a:rPr>
              <a:t>所理解的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</a:rPr>
              <a:t>苏东坡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4859280" y="2425680"/>
            <a:ext cx="1441440" cy="187164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</a:rPr>
              <a:t>苏东坡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d8b67"/>
                </a:solidFill>
                <a:latin typeface="华康俪金黑W8"/>
              </a:rPr>
              <a:t>的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</a:rPr>
              <a:t>苏式魔力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2" name="矩形 13"/>
          <p:cNvSpPr/>
          <p:nvPr/>
        </p:nvSpPr>
        <p:spPr>
          <a:xfrm>
            <a:off x="7020000" y="2425680"/>
            <a:ext cx="1439640" cy="187164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</a:rPr>
              <a:t>林语堂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d8b67"/>
                </a:solidFill>
                <a:latin typeface="华康俪金黑W8"/>
              </a:rPr>
              <a:t>与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</a:rPr>
              <a:t>苏东坡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3" name="矩形 28"/>
          <p:cNvSpPr/>
          <p:nvPr/>
        </p:nvSpPr>
        <p:spPr>
          <a:xfrm>
            <a:off x="0" y="336600"/>
            <a:ext cx="971640" cy="720720"/>
          </a:xfrm>
          <a:prstGeom prst="rect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4" name="矩形 30"/>
          <p:cNvSpPr/>
          <p:nvPr/>
        </p:nvSpPr>
        <p:spPr>
          <a:xfrm>
            <a:off x="971640" y="336600"/>
            <a:ext cx="1619280" cy="72072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5" name="椭圆 33"/>
          <p:cNvSpPr/>
          <p:nvPr/>
        </p:nvSpPr>
        <p:spPr>
          <a:xfrm>
            <a:off x="900000" y="2082960"/>
            <a:ext cx="719280" cy="72072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cebb5"/>
                </a:solidFill>
                <a:latin typeface="华康俪金黑W8"/>
              </a:rPr>
              <a:t>一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6" name="椭圆 34"/>
          <p:cNvSpPr/>
          <p:nvPr/>
        </p:nvSpPr>
        <p:spPr>
          <a:xfrm>
            <a:off x="3060720" y="2082960"/>
            <a:ext cx="719280" cy="72072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cebb5"/>
                </a:solidFill>
                <a:latin typeface="华康俪金黑W8"/>
              </a:rPr>
              <a:t>二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7" name="椭圆 35"/>
          <p:cNvSpPr/>
          <p:nvPr/>
        </p:nvSpPr>
        <p:spPr>
          <a:xfrm>
            <a:off x="5219640" y="2082960"/>
            <a:ext cx="720720" cy="72072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cebb5"/>
                </a:solidFill>
                <a:latin typeface="华康俪金黑W8"/>
              </a:rPr>
              <a:t>三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8" name="椭圆 36"/>
          <p:cNvSpPr/>
          <p:nvPr/>
        </p:nvSpPr>
        <p:spPr>
          <a:xfrm>
            <a:off x="7380360" y="2082960"/>
            <a:ext cx="720720" cy="72072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cebb5"/>
                </a:solidFill>
                <a:latin typeface="华康俪金黑W8"/>
              </a:rPr>
              <a:t>四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9" name="矩形 1"/>
          <p:cNvSpPr/>
          <p:nvPr/>
        </p:nvSpPr>
        <p:spPr>
          <a:xfrm>
            <a:off x="509400" y="4096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cebb5"/>
                </a:solidFill>
                <a:latin typeface="Stencil"/>
              </a:rPr>
              <a:t>目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  录</a:t>
            </a:r>
            <a:endParaRPr b="0" lang="en-US" sz="36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30"/>
          <p:cNvSpPr/>
          <p:nvPr/>
        </p:nvSpPr>
        <p:spPr>
          <a:xfrm>
            <a:off x="360360" y="336600"/>
            <a:ext cx="4211640" cy="72072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1" name="矩形 1"/>
          <p:cNvSpPr/>
          <p:nvPr/>
        </p:nvSpPr>
        <p:spPr>
          <a:xfrm>
            <a:off x="1773720" y="3398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林语堂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为什么</a:t>
            </a: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写</a:t>
            </a: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苏东坡传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2" name="矩形 28"/>
          <p:cNvSpPr/>
          <p:nvPr/>
        </p:nvSpPr>
        <p:spPr>
          <a:xfrm>
            <a:off x="0" y="336600"/>
            <a:ext cx="971640" cy="720720"/>
          </a:xfrm>
          <a:prstGeom prst="rect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Stencil"/>
              </a:rPr>
              <a:t>一</a:t>
            </a:r>
            <a:endParaRPr b="0" lang="en-US" sz="26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3" name="椭圆 2"/>
          <p:cNvSpPr/>
          <p:nvPr/>
        </p:nvSpPr>
        <p:spPr>
          <a:xfrm>
            <a:off x="1332000" y="2496960"/>
            <a:ext cx="2160360" cy="216072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ecebb5"/>
                </a:solidFill>
                <a:latin typeface="Stencil"/>
              </a:rPr>
              <a:t>乐</a:t>
            </a:r>
            <a:endParaRPr b="0" lang="en-US" sz="96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1187280" y="1522440"/>
            <a:ext cx="25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d1410"/>
                </a:solidFill>
                <a:latin typeface="Stencil"/>
              </a:rPr>
              <a:t>以</a:t>
            </a:r>
            <a:r>
              <a:rPr b="0" lang="zh-CN" sz="4800" spc="-1" strike="noStrike">
                <a:solidFill>
                  <a:srgbClr val="2d1410"/>
                </a:solidFill>
                <a:latin typeface="Stencil"/>
              </a:rPr>
              <a:t>此</a:t>
            </a:r>
            <a:r>
              <a:rPr b="0" lang="zh-CN" sz="2800" spc="-1" strike="noStrike">
                <a:solidFill>
                  <a:srgbClr val="2d1410"/>
                </a:solidFill>
                <a:latin typeface="Stencil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5" name="椭圆 12"/>
          <p:cNvSpPr/>
          <p:nvPr/>
        </p:nvSpPr>
        <p:spPr>
          <a:xfrm>
            <a:off x="5653080" y="2496960"/>
            <a:ext cx="2158920" cy="2160720"/>
          </a:xfrm>
          <a:prstGeom prst="ellipse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508720" y="2419200"/>
            <a:ext cx="136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2d1410"/>
                </a:solidFill>
                <a:latin typeface="Stencil"/>
              </a:rPr>
              <a:t>魔</a:t>
            </a:r>
            <a:endParaRPr b="0" lang="en-US" sz="8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7" name="TextBox 16"/>
          <p:cNvSpPr/>
          <p:nvPr/>
        </p:nvSpPr>
        <p:spPr>
          <a:xfrm>
            <a:off x="6588000" y="3354480"/>
            <a:ext cx="136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2d1410"/>
                </a:solidFill>
                <a:latin typeface="Stencil"/>
              </a:rPr>
              <a:t>力</a:t>
            </a:r>
            <a:endParaRPr b="0" lang="en-US" sz="8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5435640" y="1417680"/>
            <a:ext cx="2592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向人们描绘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d1410"/>
                </a:solidFill>
                <a:latin typeface="Stencil"/>
              </a:rPr>
              <a:t>苏东坡</a:t>
            </a: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式的迷人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30"/>
          <p:cNvSpPr/>
          <p:nvPr/>
        </p:nvSpPr>
        <p:spPr>
          <a:xfrm>
            <a:off x="360360" y="336600"/>
            <a:ext cx="4211640" cy="72072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0" name="矩形 1"/>
          <p:cNvSpPr/>
          <p:nvPr/>
        </p:nvSpPr>
        <p:spPr>
          <a:xfrm>
            <a:off x="1726200" y="33660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苏东坡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是怎样</a:t>
            </a: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的一个人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1" name="矩形 28"/>
          <p:cNvSpPr/>
          <p:nvPr/>
        </p:nvSpPr>
        <p:spPr>
          <a:xfrm>
            <a:off x="0" y="336600"/>
            <a:ext cx="971640" cy="720720"/>
          </a:xfrm>
          <a:prstGeom prst="rect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Stencil"/>
              </a:rPr>
              <a:t>二</a:t>
            </a:r>
            <a:endParaRPr b="0" lang="en-US" sz="26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2" name="椭圆 5"/>
          <p:cNvSpPr/>
          <p:nvPr/>
        </p:nvSpPr>
        <p:spPr>
          <a:xfrm>
            <a:off x="2411280" y="1201680"/>
            <a:ext cx="4319640" cy="431964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3" name="直接连接符 9"/>
          <p:cNvSpPr/>
          <p:nvPr/>
        </p:nvSpPr>
        <p:spPr>
          <a:xfrm>
            <a:off x="2411280" y="3360600"/>
            <a:ext cx="4319640" cy="0"/>
          </a:xfrm>
          <a:prstGeom prst="line">
            <a:avLst/>
          </a:prstGeom>
          <a:ln w="9360">
            <a:solidFill>
              <a:srgbClr val="eceb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4" name="直接连接符 31"/>
          <p:cNvSpPr/>
          <p:nvPr/>
        </p:nvSpPr>
        <p:spPr>
          <a:xfrm>
            <a:off x="4572000" y="1201680"/>
            <a:ext cx="0" cy="4319640"/>
          </a:xfrm>
          <a:prstGeom prst="line">
            <a:avLst/>
          </a:prstGeom>
          <a:ln w="9360">
            <a:solidFill>
              <a:srgbClr val="eceb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5" name="直接连接符 36"/>
          <p:cNvSpPr/>
          <p:nvPr/>
        </p:nvSpPr>
        <p:spPr>
          <a:xfrm>
            <a:off x="3044880" y="1833480"/>
            <a:ext cx="3054240" cy="3054600"/>
          </a:xfrm>
          <a:prstGeom prst="line">
            <a:avLst/>
          </a:prstGeom>
          <a:ln w="9360">
            <a:solidFill>
              <a:srgbClr val="eceb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6" name="直接连接符 38"/>
          <p:cNvSpPr/>
          <p:nvPr/>
        </p:nvSpPr>
        <p:spPr>
          <a:xfrm flipV="1">
            <a:off x="3044880" y="1833120"/>
            <a:ext cx="3054240" cy="3054600"/>
          </a:xfrm>
          <a:prstGeom prst="line">
            <a:avLst/>
          </a:prstGeom>
          <a:ln w="9360">
            <a:solidFill>
              <a:srgbClr val="eceb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7" name="矩形 39"/>
          <p:cNvSpPr/>
          <p:nvPr/>
        </p:nvSpPr>
        <p:spPr>
          <a:xfrm rot="17640000">
            <a:off x="4645440" y="13705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秉性难改的乐天派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8" name="矩形 41"/>
          <p:cNvSpPr/>
          <p:nvPr/>
        </p:nvSpPr>
        <p:spPr>
          <a:xfrm rot="19934400">
            <a:off x="5684400" y="23241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伟大的人道主义者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9" name="矩形 42"/>
          <p:cNvSpPr/>
          <p:nvPr/>
        </p:nvSpPr>
        <p:spPr>
          <a:xfrm rot="4100400">
            <a:off x="3436200" y="1562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百姓的好朋友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0" name="矩形 50"/>
          <p:cNvSpPr/>
          <p:nvPr/>
        </p:nvSpPr>
        <p:spPr>
          <a:xfrm rot="19813200">
            <a:off x="2747880" y="36511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皇帝的秘书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士大夫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1" name="矩形 55"/>
          <p:cNvSpPr/>
          <p:nvPr/>
        </p:nvSpPr>
        <p:spPr>
          <a:xfrm rot="17403600">
            <a:off x="3576240" y="4481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月下的漫步者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2" name="矩形 62"/>
          <p:cNvSpPr/>
          <p:nvPr/>
        </p:nvSpPr>
        <p:spPr>
          <a:xfrm rot="2071200">
            <a:off x="-1738800" y="1012680"/>
            <a:ext cx="58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大文豪、大书法家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创新的画家、造酒试验家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3" name="矩形 69"/>
          <p:cNvSpPr/>
          <p:nvPr/>
        </p:nvSpPr>
        <p:spPr>
          <a:xfrm rot="3732000">
            <a:off x="4872960" y="4389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诗人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4" name="饼形 71"/>
          <p:cNvSpPr/>
          <p:nvPr/>
        </p:nvSpPr>
        <p:spPr>
          <a:xfrm>
            <a:off x="2411280" y="1201680"/>
            <a:ext cx="4319640" cy="4319640"/>
          </a:xfrm>
          <a:custGeom>
            <a:avLst/>
            <a:gdLst/>
            <a:ahLst/>
            <a:rect l="l" t="t" r="r" b="b"/>
            <a:pathLst>
              <a:path w="4319587" h="4319587">
                <a:moveTo>
                  <a:pt x="4319587" y="2159793"/>
                </a:moveTo>
                <a:cubicBezTo>
                  <a:pt x="4319587" y="2755260"/>
                  <a:pt x="4078608" y="3294444"/>
                  <a:pt x="3688851" y="3685142"/>
                </a:cubicBezTo>
                <a:lnTo>
                  <a:pt x="2159793" y="2159793"/>
                </a:lnTo>
                <a:close/>
              </a:path>
            </a:pathLst>
          </a:cu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5" name="椭圆 73"/>
          <p:cNvSpPr/>
          <p:nvPr/>
        </p:nvSpPr>
        <p:spPr>
          <a:xfrm>
            <a:off x="4033800" y="2822400"/>
            <a:ext cx="1081080" cy="1079640"/>
          </a:xfrm>
          <a:prstGeom prst="ellipse">
            <a:avLst/>
          </a:prstGeom>
          <a:solidFill>
            <a:srgbClr val="ecebb5"/>
          </a:solidFill>
          <a:ln w="19080">
            <a:solidFill>
              <a:srgbClr val="2d14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d1410"/>
                </a:solidFill>
                <a:latin typeface="Stencil"/>
              </a:rPr>
              <a:t>苏轼</a:t>
            </a: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6" name="TextBox 74"/>
          <p:cNvSpPr/>
          <p:nvPr/>
        </p:nvSpPr>
        <p:spPr>
          <a:xfrm>
            <a:off x="5148360" y="487512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d1410"/>
                </a:solidFill>
                <a:latin typeface="Stencil"/>
              </a:rPr>
              <a:t>这些都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不足以</a:t>
            </a:r>
            <a:r>
              <a:rPr b="0" lang="zh-CN" sz="1300" spc="-1" strike="noStrike">
                <a:solidFill>
                  <a:srgbClr val="2d1410"/>
                </a:solidFill>
                <a:latin typeface="Stencil"/>
              </a:rPr>
              <a:t>勾绘出他的全貌</a:t>
            </a:r>
            <a:endParaRPr b="0" lang="en-US" sz="13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7" name="TextBox 75"/>
          <p:cNvSpPr/>
          <p:nvPr/>
        </p:nvSpPr>
        <p:spPr>
          <a:xfrm rot="1850400">
            <a:off x="5181480" y="396072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更多称呼   </a:t>
            </a:r>
            <a:r>
              <a:rPr b="0" lang="en-US" sz="1800" spc="-1" strike="noStrike">
                <a:solidFill>
                  <a:srgbClr val="9d8b67"/>
                </a:solidFill>
                <a:latin typeface="Stenci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30"/>
          <p:cNvSpPr/>
          <p:nvPr/>
        </p:nvSpPr>
        <p:spPr>
          <a:xfrm>
            <a:off x="360360" y="336600"/>
            <a:ext cx="4211640" cy="72072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9" name="矩形 1"/>
          <p:cNvSpPr/>
          <p:nvPr/>
        </p:nvSpPr>
        <p:spPr>
          <a:xfrm>
            <a:off x="1886400" y="336600"/>
            <a:ext cx="16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苏东坡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是怎样</a:t>
            </a: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的一个人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0" name="矩形 28"/>
          <p:cNvSpPr/>
          <p:nvPr/>
        </p:nvSpPr>
        <p:spPr>
          <a:xfrm>
            <a:off x="0" y="336600"/>
            <a:ext cx="971640" cy="720720"/>
          </a:xfrm>
          <a:prstGeom prst="rect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Stencil"/>
              </a:rPr>
              <a:t>二</a:t>
            </a:r>
            <a:endParaRPr b="0" lang="en-US" sz="2600" spc="-1" strike="noStrike">
              <a:solidFill>
                <a:srgbClr val="000000"/>
              </a:solidFill>
              <a:latin typeface="Stencil"/>
            </a:endParaRPr>
          </a:p>
        </p:txBody>
      </p:sp>
      <p:pic>
        <p:nvPicPr>
          <p:cNvPr id="91" name="TextBox 13" descr=""/>
          <p:cNvPicPr/>
          <p:nvPr/>
        </p:nvPicPr>
        <p:blipFill>
          <a:blip r:embed="rId1"/>
          <a:stretch/>
        </p:blipFill>
        <p:spPr>
          <a:xfrm>
            <a:off x="-27000" y="1560600"/>
            <a:ext cx="1359000" cy="3139920"/>
          </a:xfrm>
          <a:prstGeom prst="rect">
            <a:avLst/>
          </a:prstGeom>
          <a:ln w="0">
            <a:noFill/>
          </a:ln>
        </p:spPr>
      </p:pic>
      <p:pic>
        <p:nvPicPr>
          <p:cNvPr id="92" name="组合 11" descr=""/>
          <p:cNvPicPr/>
          <p:nvPr/>
        </p:nvPicPr>
        <p:blipFill>
          <a:blip r:embed="rId2"/>
          <a:stretch/>
        </p:blipFill>
        <p:spPr>
          <a:xfrm>
            <a:off x="598320" y="1547640"/>
            <a:ext cx="3181680" cy="3181680"/>
          </a:xfrm>
          <a:prstGeom prst="rect">
            <a:avLst/>
          </a:prstGeom>
          <a:ln w="0">
            <a:noFill/>
          </a:ln>
        </p:spPr>
      </p:pic>
      <p:sp>
        <p:nvSpPr>
          <p:cNvPr id="93" name="TextBox 20"/>
          <p:cNvSpPr/>
          <p:nvPr/>
        </p:nvSpPr>
        <p:spPr>
          <a:xfrm>
            <a:off x="2557440" y="2631960"/>
            <a:ext cx="646200" cy="36828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诙谐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4" name="直接连接符 5"/>
          <p:cNvSpPr/>
          <p:nvPr/>
        </p:nvSpPr>
        <p:spPr>
          <a:xfrm>
            <a:off x="755640" y="3105000"/>
            <a:ext cx="2879640" cy="0"/>
          </a:xfrm>
          <a:prstGeom prst="line">
            <a:avLst/>
          </a:prstGeom>
          <a:ln w="6480">
            <a:solidFill>
              <a:srgbClr val="9d8b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5" name="直接连接符 22"/>
          <p:cNvSpPr/>
          <p:nvPr/>
        </p:nvSpPr>
        <p:spPr>
          <a:xfrm>
            <a:off x="1258920" y="2425680"/>
            <a:ext cx="1800360" cy="0"/>
          </a:xfrm>
          <a:prstGeom prst="line">
            <a:avLst/>
          </a:prstGeom>
          <a:ln w="6480">
            <a:solidFill>
              <a:srgbClr val="9d8b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6" name="直接连接符 26"/>
          <p:cNvSpPr/>
          <p:nvPr/>
        </p:nvSpPr>
        <p:spPr>
          <a:xfrm>
            <a:off x="1258920" y="3794040"/>
            <a:ext cx="1800360" cy="0"/>
          </a:xfrm>
          <a:prstGeom prst="line">
            <a:avLst/>
          </a:prstGeom>
          <a:ln w="6480">
            <a:solidFill>
              <a:srgbClr val="9d8b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7" name="椭圆 37"/>
          <p:cNvSpPr/>
          <p:nvPr/>
        </p:nvSpPr>
        <p:spPr>
          <a:xfrm>
            <a:off x="7164360" y="2209680"/>
            <a:ext cx="1800360" cy="1800360"/>
          </a:xfrm>
          <a:prstGeom prst="ellipse">
            <a:avLst/>
          </a:prstGeom>
          <a:solidFill>
            <a:srgbClr val="2d14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3"/>
          <a:stretch/>
        </p:blipFill>
        <p:spPr>
          <a:xfrm>
            <a:off x="2195640" y="2235240"/>
            <a:ext cx="6406920" cy="4006800"/>
          </a:xfrm>
          <a:prstGeom prst="rect">
            <a:avLst/>
          </a:prstGeom>
          <a:ln w="0">
            <a:noFill/>
          </a:ln>
        </p:spPr>
      </p:pic>
      <p:sp>
        <p:nvSpPr>
          <p:cNvPr id="99" name="直接连接符 42"/>
          <p:cNvSpPr/>
          <p:nvPr/>
        </p:nvSpPr>
        <p:spPr>
          <a:xfrm>
            <a:off x="7380360" y="3105000"/>
            <a:ext cx="1439640" cy="0"/>
          </a:xfrm>
          <a:prstGeom prst="line">
            <a:avLst/>
          </a:prstGeom>
          <a:ln w="6480">
            <a:solidFill>
              <a:srgbClr val="eceb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00" name="TextBox 2050"/>
          <p:cNvSpPr/>
          <p:nvPr/>
        </p:nvSpPr>
        <p:spPr>
          <a:xfrm>
            <a:off x="7348680" y="267336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cebb5"/>
                </a:solidFill>
                <a:latin typeface="Stencil"/>
              </a:rPr>
              <a:t>耶稣的比喻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01" name="TextBox 2051"/>
          <p:cNvSpPr/>
          <p:nvPr/>
        </p:nvSpPr>
        <p:spPr>
          <a:xfrm>
            <a:off x="7236000" y="3362400"/>
            <a:ext cx="162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cebb5"/>
                </a:solidFill>
                <a:latin typeface="张海山锐线体简"/>
                <a:ea typeface="张海山锐线体简"/>
              </a:rPr>
              <a:t>蛇的智慧</a:t>
            </a:r>
            <a:endParaRPr b="0" lang="en-US" sz="13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02" name="TextBox 45"/>
          <p:cNvSpPr/>
          <p:nvPr/>
        </p:nvSpPr>
        <p:spPr>
          <a:xfrm>
            <a:off x="7236000" y="3144960"/>
            <a:ext cx="162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cebb5"/>
                </a:solidFill>
                <a:latin typeface="张海山锐线体简"/>
                <a:ea typeface="张海山锐线体简"/>
              </a:rPr>
              <a:t>鸽子的温文</a:t>
            </a:r>
            <a:endParaRPr b="0" lang="en-US" sz="13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30"/>
          <p:cNvSpPr/>
          <p:nvPr/>
        </p:nvSpPr>
        <p:spPr>
          <a:xfrm>
            <a:off x="360360" y="336600"/>
            <a:ext cx="4211640" cy="72072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04" name="矩形 1"/>
          <p:cNvSpPr/>
          <p:nvPr/>
        </p:nvSpPr>
        <p:spPr>
          <a:xfrm>
            <a:off x="1886400" y="336600"/>
            <a:ext cx="16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苏东坡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是怎样</a:t>
            </a: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的一个人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05" name="矩形 28"/>
          <p:cNvSpPr/>
          <p:nvPr/>
        </p:nvSpPr>
        <p:spPr>
          <a:xfrm>
            <a:off x="0" y="336600"/>
            <a:ext cx="971640" cy="720720"/>
          </a:xfrm>
          <a:prstGeom prst="rect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Stencil"/>
              </a:rPr>
              <a:t>二</a:t>
            </a:r>
            <a:endParaRPr b="0" lang="en-US" sz="2600" spc="-1" strike="noStrike">
              <a:solidFill>
                <a:srgbClr val="000000"/>
              </a:solidFill>
              <a:latin typeface="Stenci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1203480" y="193680"/>
            <a:ext cx="6194160" cy="532764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"/>
          <p:cNvSpPr/>
          <p:nvPr/>
        </p:nvSpPr>
        <p:spPr>
          <a:xfrm>
            <a:off x="1835280" y="2065320"/>
            <a:ext cx="51307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在中国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一提到</a:t>
            </a:r>
            <a:r>
              <a:rPr b="0" i="1" lang="zh-CN" sz="3600" spc="-1" strike="noStrike">
                <a:solidFill>
                  <a:srgbClr val="2d1410"/>
                </a:solidFill>
                <a:latin typeface="Stencil"/>
                <a:ea typeface="华康俪金黑W8"/>
              </a:rPr>
              <a:t>苏东坡</a:t>
            </a: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总会引起我们亲切敬佩的   </a:t>
            </a:r>
            <a:r>
              <a:rPr b="0" lang="zh-CN" sz="6600" spc="-1" strike="noStrike">
                <a:solidFill>
                  <a:srgbClr val="2d1410"/>
                </a:solidFill>
                <a:latin typeface="Stencil"/>
                <a:ea typeface="华康俪金黑W8"/>
              </a:rPr>
              <a:t>微笑</a:t>
            </a:r>
            <a:r>
              <a:rPr b="0" lang="zh-CN" sz="6600" spc="-1" strike="noStrike">
                <a:solidFill>
                  <a:srgbClr val="2d1410"/>
                </a:solidFill>
                <a:latin typeface="Stencil"/>
                <a:ea typeface="华康俪金黑W8"/>
              </a:rPr>
              <a:t>！</a:t>
            </a:r>
            <a:endParaRPr b="0" lang="en-US" sz="66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30"/>
          <p:cNvSpPr/>
          <p:nvPr/>
        </p:nvSpPr>
        <p:spPr>
          <a:xfrm>
            <a:off x="360360" y="336600"/>
            <a:ext cx="4211640" cy="72072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09" name="矩形 1"/>
          <p:cNvSpPr/>
          <p:nvPr/>
        </p:nvSpPr>
        <p:spPr>
          <a:xfrm>
            <a:off x="1799280" y="33984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苏东坡的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苏</a:t>
            </a: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式   </a:t>
            </a:r>
            <a:r>
              <a:rPr b="0" i="1" lang="zh-CN" sz="3600" spc="-1" strike="noStrike">
                <a:solidFill>
                  <a:srgbClr val="2d1410"/>
                </a:solidFill>
                <a:latin typeface="Stencil"/>
              </a:rPr>
              <a:t>魔</a:t>
            </a:r>
            <a:r>
              <a:rPr b="0" i="1" lang="zh-CN" sz="1800" spc="-1" strike="noStrike">
                <a:solidFill>
                  <a:srgbClr val="9d8b67"/>
                </a:solidFill>
                <a:latin typeface="Stencil"/>
              </a:rPr>
              <a:t>力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0" name="矩形 28"/>
          <p:cNvSpPr/>
          <p:nvPr/>
        </p:nvSpPr>
        <p:spPr>
          <a:xfrm>
            <a:off x="0" y="336600"/>
            <a:ext cx="971640" cy="720720"/>
          </a:xfrm>
          <a:prstGeom prst="rect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Stencil"/>
              </a:rPr>
              <a:t>三</a:t>
            </a:r>
            <a:endParaRPr b="0" lang="en-US" sz="26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1" name="TextBox 15"/>
          <p:cNvSpPr/>
          <p:nvPr/>
        </p:nvSpPr>
        <p:spPr>
          <a:xfrm>
            <a:off x="4788000" y="1704960"/>
            <a:ext cx="4032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苏东坡</a:t>
            </a:r>
            <a:endParaRPr b="0" lang="en-US" sz="36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自有其迷人魔力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就如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魔力之在女人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美丽芬芳之在花朵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是</a:t>
            </a:r>
            <a:r>
              <a:rPr b="0" lang="zh-CN" sz="2600" spc="-1" strike="noStrike">
                <a:solidFill>
                  <a:srgbClr val="2d1410"/>
                </a:solidFill>
                <a:latin typeface="Stencil"/>
              </a:rPr>
              <a:t>易于感觉</a:t>
            </a: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而难于说明的！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2" name="直接连接符 9"/>
          <p:cNvSpPr/>
          <p:nvPr/>
        </p:nvSpPr>
        <p:spPr>
          <a:xfrm>
            <a:off x="8226360" y="1849320"/>
            <a:ext cx="0" cy="720720"/>
          </a:xfrm>
          <a:prstGeom prst="line">
            <a:avLst/>
          </a:prstGeom>
          <a:ln w="6480">
            <a:solidFill>
              <a:srgbClr val="2d14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3" name="直接连接符 10"/>
          <p:cNvSpPr/>
          <p:nvPr/>
        </p:nvSpPr>
        <p:spPr>
          <a:xfrm>
            <a:off x="8226360" y="3649680"/>
            <a:ext cx="0" cy="719280"/>
          </a:xfrm>
          <a:prstGeom prst="line">
            <a:avLst/>
          </a:prstGeom>
          <a:ln w="6480">
            <a:solidFill>
              <a:srgbClr val="2d14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7991640" y="2654280"/>
            <a:ext cx="46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林语堂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pic>
        <p:nvPicPr>
          <p:cNvPr id="115" name="图片 3" descr=""/>
          <p:cNvPicPr/>
          <p:nvPr/>
        </p:nvPicPr>
        <p:blipFill>
          <a:blip r:embed="rId1"/>
          <a:stretch/>
        </p:blipFill>
        <p:spPr>
          <a:xfrm>
            <a:off x="55440" y="1344600"/>
            <a:ext cx="40849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30"/>
          <p:cNvSpPr/>
          <p:nvPr/>
        </p:nvSpPr>
        <p:spPr>
          <a:xfrm>
            <a:off x="360360" y="336600"/>
            <a:ext cx="4211640" cy="72072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7" name="矩形 1"/>
          <p:cNvSpPr/>
          <p:nvPr/>
        </p:nvSpPr>
        <p:spPr>
          <a:xfrm>
            <a:off x="1716480" y="411120"/>
            <a:ext cx="20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d1410"/>
                </a:solidFill>
                <a:latin typeface="Stencil"/>
              </a:rPr>
              <a:t>林语堂  </a:t>
            </a: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与  </a:t>
            </a:r>
            <a:r>
              <a:rPr b="0" i="1" lang="zh-CN" sz="3600" spc="-1" strike="noStrike">
                <a:solidFill>
                  <a:srgbClr val="2d1410"/>
                </a:solidFill>
                <a:latin typeface="Stencil"/>
              </a:rPr>
              <a:t>苏东坡</a:t>
            </a:r>
            <a:endParaRPr b="0" lang="en-US" sz="36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8" name="矩形 28"/>
          <p:cNvSpPr/>
          <p:nvPr/>
        </p:nvSpPr>
        <p:spPr>
          <a:xfrm>
            <a:off x="0" y="336600"/>
            <a:ext cx="971640" cy="720720"/>
          </a:xfrm>
          <a:prstGeom prst="rect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Stencil"/>
              </a:rPr>
              <a:t>四</a:t>
            </a:r>
            <a:endParaRPr b="0" lang="en-US" sz="26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9" name="矩形 2"/>
          <p:cNvSpPr/>
          <p:nvPr/>
        </p:nvSpPr>
        <p:spPr>
          <a:xfrm>
            <a:off x="976320" y="1344600"/>
            <a:ext cx="7196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1410"/>
                </a:solidFill>
                <a:latin typeface="Stencil"/>
              </a:rPr>
              <a:t>       </a:t>
            </a: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知道一个人，或不知道一个人，于他是否为同代人，没有关系。主要的倒是对他是否有同情的了解。归根结底，我们只能知道自己真正了解的人，我们只能了解我们真正喜欢的人。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755640" y="13446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“</a:t>
            </a:r>
            <a:endParaRPr b="0" lang="en-US" sz="36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5940360" y="21366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Stencil"/>
            </a:endParaRPr>
          </a:p>
        </p:txBody>
      </p:sp>
      <p:grpSp>
        <p:nvGrpSpPr>
          <p:cNvPr id="122" name="组合 16"/>
          <p:cNvGrpSpPr/>
          <p:nvPr/>
        </p:nvGrpSpPr>
        <p:grpSpPr>
          <a:xfrm>
            <a:off x="1116000" y="3433680"/>
            <a:ext cx="2735280" cy="1793880"/>
            <a:chOff x="1116000" y="3433680"/>
            <a:chExt cx="2735280" cy="1793880"/>
          </a:xfrm>
        </p:grpSpPr>
        <p:sp>
          <p:nvSpPr>
            <p:cNvPr id="123" name="椭圆 4"/>
            <p:cNvSpPr/>
            <p:nvPr/>
          </p:nvSpPr>
          <p:spPr>
            <a:xfrm>
              <a:off x="1116000" y="3433680"/>
              <a:ext cx="1763640" cy="1764000"/>
            </a:xfrm>
            <a:prstGeom prst="ellipse">
              <a:avLst/>
            </a:prstGeom>
            <a:solidFill>
              <a:srgbClr val="ece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124" name="椭圆 12"/>
            <p:cNvSpPr/>
            <p:nvPr/>
          </p:nvSpPr>
          <p:spPr>
            <a:xfrm>
              <a:off x="2087640" y="3463560"/>
              <a:ext cx="1763640" cy="1764000"/>
            </a:xfrm>
            <a:prstGeom prst="ellipse">
              <a:avLst/>
            </a:prstGeom>
            <a:solidFill>
              <a:srgbClr val="9d8b67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125" name="TextBox 5"/>
            <p:cNvSpPr/>
            <p:nvPr/>
          </p:nvSpPr>
          <p:spPr>
            <a:xfrm>
              <a:off x="2879640" y="4009680"/>
              <a:ext cx="71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ecebb5"/>
                  </a:solidFill>
                  <a:latin typeface="Stencil"/>
                </a:rPr>
                <a:t>古代大师</a:t>
              </a:r>
              <a:endParaRPr b="0" lang="en-US" sz="16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126" name="TextBox 14"/>
            <p:cNvSpPr/>
            <p:nvPr/>
          </p:nvSpPr>
          <p:spPr>
            <a:xfrm>
              <a:off x="1253160" y="400968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9d8b67"/>
                  </a:solidFill>
                  <a:latin typeface="Stencil"/>
                </a:rPr>
                <a:t>现代大师</a:t>
              </a:r>
              <a:endParaRPr b="0" lang="en-US" sz="16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127" name="TextBox 11"/>
            <p:cNvSpPr/>
            <p:nvPr/>
          </p:nvSpPr>
          <p:spPr>
            <a:xfrm>
              <a:off x="2274480" y="3673440"/>
              <a:ext cx="38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d1410"/>
                  </a:solidFill>
                  <a:latin typeface="Stencil"/>
                </a:rPr>
                <a:t>惺惺相惜</a:t>
              </a:r>
              <a:endParaRPr b="0" lang="en-US" sz="18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grpSp>
        <p:nvGrpSpPr>
          <p:cNvPr id="128" name="组合 15"/>
          <p:cNvGrpSpPr/>
          <p:nvPr/>
        </p:nvGrpSpPr>
        <p:grpSpPr>
          <a:xfrm>
            <a:off x="5219640" y="3433680"/>
            <a:ext cx="3049560" cy="1735200"/>
            <a:chOff x="5219640" y="3433680"/>
            <a:chExt cx="3049560" cy="1735200"/>
          </a:xfrm>
        </p:grpSpPr>
        <p:pic>
          <p:nvPicPr>
            <p:cNvPr id="129" name="Picture 2" descr=""/>
            <p:cNvPicPr/>
            <p:nvPr/>
          </p:nvPicPr>
          <p:blipFill>
            <a:blip r:embed="rId1"/>
            <a:stretch/>
          </p:blipFill>
          <p:spPr>
            <a:xfrm>
              <a:off x="5271480" y="3505680"/>
              <a:ext cx="2935800" cy="15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圆角矩形 13"/>
            <p:cNvSpPr/>
            <p:nvPr/>
          </p:nvSpPr>
          <p:spPr>
            <a:xfrm>
              <a:off x="5219640" y="3433680"/>
              <a:ext cx="3049560" cy="1735200"/>
            </a:xfrm>
            <a:prstGeom prst="roundRect">
              <a:avLst>
                <a:gd name="adj" fmla="val 16667"/>
              </a:avLst>
            </a:prstGeom>
            <a:solidFill>
              <a:srgbClr val="9d8b67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d1410"/>
                  </a:solidFill>
                  <a:latin typeface="Arial"/>
                </a:rPr>
                <a:t>Lin yutang</a:t>
              </a:r>
              <a:endParaRPr b="0" lang="en-US" sz="1700" spc="-1" strike="noStrike">
                <a:solidFill>
                  <a:srgbClr val="000000"/>
                </a:solidFill>
                <a:latin typeface="Stenci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Stenci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2d1410"/>
                  </a:solidFill>
                  <a:latin typeface="Stencil"/>
                </a:rPr>
                <a:t>让世界</a:t>
              </a:r>
              <a:endParaRPr b="0" lang="en-US" sz="2600" spc="-1" strike="noStrike">
                <a:solidFill>
                  <a:srgbClr val="000000"/>
                </a:solidFill>
                <a:latin typeface="Stenci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2d1410"/>
                  </a:solidFill>
                  <a:latin typeface="Stencil"/>
                </a:rPr>
                <a:t>了解了中国的</a:t>
              </a:r>
              <a:r>
                <a:rPr b="0" lang="zh-CN" sz="2000" spc="-1" strike="noStrike">
                  <a:solidFill>
                    <a:srgbClr val="ecebb5"/>
                  </a:solidFill>
                  <a:latin typeface="Stencil"/>
                </a:rPr>
                <a:t>苏东坡</a:t>
              </a:r>
              <a:r>
                <a:rPr b="0" lang="zh-CN" sz="1700" spc="-1" strike="noStrike">
                  <a:solidFill>
                    <a:srgbClr val="2d1410"/>
                  </a:solidFill>
                  <a:latin typeface="Stencil"/>
                </a:rPr>
                <a:t>！</a:t>
              </a:r>
              <a:endParaRPr b="0" lang="en-US" sz="17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sp>
        <p:nvSpPr>
          <p:cNvPr id="131" name="直接连接符 17"/>
          <p:cNvSpPr/>
          <p:nvPr/>
        </p:nvSpPr>
        <p:spPr>
          <a:xfrm>
            <a:off x="971640" y="1344600"/>
            <a:ext cx="0" cy="1441440"/>
          </a:xfrm>
          <a:prstGeom prst="line">
            <a:avLst/>
          </a:prstGeom>
          <a:ln w="6480">
            <a:solidFill>
              <a:srgbClr val="2d14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接连接符 5"/>
          <p:cNvSpPr/>
          <p:nvPr/>
        </p:nvSpPr>
        <p:spPr>
          <a:xfrm>
            <a:off x="0" y="239868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3" name="椭圆 7"/>
          <p:cNvSpPr/>
          <p:nvPr/>
        </p:nvSpPr>
        <p:spPr>
          <a:xfrm>
            <a:off x="539640" y="1677960"/>
            <a:ext cx="1440000" cy="144000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林语堂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为什么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写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苏东坡传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4" name="椭圆 11"/>
          <p:cNvSpPr/>
          <p:nvPr/>
        </p:nvSpPr>
        <p:spPr>
          <a:xfrm>
            <a:off x="2700360" y="1677960"/>
            <a:ext cx="1440000" cy="144000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苏东坡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是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怎样的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一个人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5" name="椭圆 12"/>
          <p:cNvSpPr/>
          <p:nvPr/>
        </p:nvSpPr>
        <p:spPr>
          <a:xfrm>
            <a:off x="4859280" y="1677960"/>
            <a:ext cx="1441440" cy="144000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苏东坡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的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苏式魔力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6" name="椭圆 13"/>
          <p:cNvSpPr/>
          <p:nvPr/>
        </p:nvSpPr>
        <p:spPr>
          <a:xfrm>
            <a:off x="7020000" y="1677960"/>
            <a:ext cx="1439640" cy="144000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林语堂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与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苏东坡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7" name="矩形 28"/>
          <p:cNvSpPr/>
          <p:nvPr/>
        </p:nvSpPr>
        <p:spPr>
          <a:xfrm>
            <a:off x="8172360" y="358920"/>
            <a:ext cx="971640" cy="720720"/>
          </a:xfrm>
          <a:prstGeom prst="rect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8" name="矩形 30"/>
          <p:cNvSpPr/>
          <p:nvPr/>
        </p:nvSpPr>
        <p:spPr>
          <a:xfrm>
            <a:off x="6553080" y="358920"/>
            <a:ext cx="1619280" cy="72072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9" name="圆角矩形 1"/>
          <p:cNvSpPr/>
          <p:nvPr/>
        </p:nvSpPr>
        <p:spPr>
          <a:xfrm>
            <a:off x="826920" y="3002040"/>
            <a:ext cx="865440" cy="1584360"/>
          </a:xfrm>
          <a:custGeom>
            <a:avLst/>
            <a:gdLst>
              <a:gd name="textAreaLeft" fmla="*/ 42120 w 865440"/>
              <a:gd name="textAreaRight" fmla="*/ 823320 w 865440"/>
              <a:gd name="textAreaTop" fmla="*/ 42120 h 1584360"/>
              <a:gd name="textAreaBottom" fmla="*/ 1542240 h 1584360"/>
            </a:gdLst>
            <a:ahLst/>
            <a:rect l="textAreaLeft" t="textAreaTop" r="textAreaRight" b="textAreaBottom"/>
            <a:pathLst>
              <a:path w="21600" h="39536">
                <a:moveTo>
                  <a:pt x="3600" y="0"/>
                </a:moveTo>
                <a:arcTo wR="3600" hR="3600" stAng="16200000" swAng="-5400000"/>
                <a:lnTo>
                  <a:pt x="0" y="35936"/>
                </a:lnTo>
                <a:arcTo wR="3600" hR="3600" stAng="10800000" swAng="-5400000"/>
                <a:lnTo>
                  <a:pt x="18000" y="395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原因有二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40" name="圆角矩形 14"/>
          <p:cNvSpPr/>
          <p:nvPr/>
        </p:nvSpPr>
        <p:spPr>
          <a:xfrm>
            <a:off x="2987640" y="3029040"/>
            <a:ext cx="863640" cy="158436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584360"/>
              <a:gd name="textAreaBottom" fmla="*/ 1542240 h 1584360"/>
            </a:gdLst>
            <a:ahLst/>
            <a:rect l="textAreaLeft" t="textAreaTop" r="textAreaRight" b="textAreaBottom"/>
            <a:pathLst>
              <a:path w="21600" h="39618">
                <a:moveTo>
                  <a:pt x="3600" y="0"/>
                </a:moveTo>
                <a:arcTo wR="3600" hR="3600" stAng="16200000" swAng="-5400000"/>
                <a:lnTo>
                  <a:pt x="0" y="36018"/>
                </a:lnTo>
                <a:arcTo wR="3600" hR="3600" stAng="10800000" swAng="-5400000"/>
                <a:lnTo>
                  <a:pt x="18000" y="39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让人亲切敬佩的微笑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41" name="圆角矩形 15"/>
          <p:cNvSpPr/>
          <p:nvPr/>
        </p:nvSpPr>
        <p:spPr>
          <a:xfrm>
            <a:off x="5148360" y="3002040"/>
            <a:ext cx="863640" cy="158436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584360"/>
              <a:gd name="textAreaBottom" fmla="*/ 1542240 h 1584360"/>
            </a:gdLst>
            <a:ahLst/>
            <a:rect l="textAreaLeft" t="textAreaTop" r="textAreaRight" b="textAreaBottom"/>
            <a:pathLst>
              <a:path w="21600" h="39618">
                <a:moveTo>
                  <a:pt x="3600" y="0"/>
                </a:moveTo>
                <a:arcTo wR="3600" hR="3600" stAng="16200000" swAng="-5400000"/>
                <a:lnTo>
                  <a:pt x="0" y="36018"/>
                </a:lnTo>
                <a:arcTo wR="3600" hR="3600" stAng="10800000" swAng="-5400000"/>
                <a:lnTo>
                  <a:pt x="18000" y="39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需要用心体味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42" name="圆角矩形 16"/>
          <p:cNvSpPr/>
          <p:nvPr/>
        </p:nvSpPr>
        <p:spPr>
          <a:xfrm>
            <a:off x="7308720" y="3002040"/>
            <a:ext cx="863640" cy="158436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584360"/>
              <a:gd name="textAreaBottom" fmla="*/ 1542240 h 1584360"/>
            </a:gdLst>
            <a:ahLst/>
            <a:rect l="textAreaLeft" t="textAreaTop" r="textAreaRight" b="textAreaBottom"/>
            <a:pathLst>
              <a:path w="21600" h="39618">
                <a:moveTo>
                  <a:pt x="3600" y="0"/>
                </a:moveTo>
                <a:arcTo wR="3600" hR="3600" stAng="16200000" swAng="-5400000"/>
                <a:lnTo>
                  <a:pt x="0" y="36018"/>
                </a:lnTo>
                <a:arcTo wR="3600" hR="3600" stAng="10800000" swAng="-5400000"/>
                <a:lnTo>
                  <a:pt x="18000" y="39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应该是同类人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43" name="矩形 17"/>
          <p:cNvSpPr/>
          <p:nvPr/>
        </p:nvSpPr>
        <p:spPr>
          <a:xfrm>
            <a:off x="7667280" y="43344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结</a:t>
            </a:r>
            <a:r>
              <a:rPr b="0" lang="zh-CN" sz="3600" spc="-1" strike="noStrike">
                <a:solidFill>
                  <a:srgbClr val="ecebb5"/>
                </a:solidFill>
                <a:latin typeface="Stencil"/>
              </a:rPr>
              <a:t>  语</a:t>
            </a:r>
            <a:endParaRPr b="0" lang="en-US" sz="36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9T08:28:44Z</dcterms:created>
  <dc:creator/>
  <dc:description/>
  <dc:language>en-US</dc:language>
  <cp:lastModifiedBy>Administrator</cp:lastModifiedBy>
  <dcterms:modified xsi:type="dcterms:W3CDTF">2017-04-06T07:42:34Z</dcterms:modified>
  <cp:revision>15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